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F9E50-8974-4484-B999-E4D05E8088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067E5-1943-48D5-A7FD-CFA851F6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FEFE5-AF6A-4276-9314-B9DA7220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408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06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408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06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A1FC7-821C-4659-A6B6-3674CAAD33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79114-52B7-48BD-A1FE-769BC0E28E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C6FE3-A289-42DA-B106-18CEE7A2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4D2AC-E827-4C55-9106-E94AAD5A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4C11E-4A9D-46A3-852E-AA7EFD60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3B5DE-560F-4D15-B98A-48C3F560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920" y="190080"/>
            <a:ext cx="7794720" cy="36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14CBA-19AB-4063-99F7-AABDCCCC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11C6E-799C-4C09-A02C-CF9DD80F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5996B-98DD-4865-9AEF-3A7E5ABC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D2343-F1A4-4F67-957A-4AD2E85A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3FFF2-DDD1-47F8-B672-D9243902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0AEA2-85B0-459F-ADC1-FA3BAF58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6A4C7-8018-46FB-A024-81CF3AB7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08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706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08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706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E95AF-57BC-447E-96FD-39572666BE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132EE-BA77-4497-AFD4-E23D6BEC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461F3-EE0D-4667-B256-E47485ED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B29C-77A6-4AA4-ADB1-98159A14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920" y="190080"/>
            <a:ext cx="7794720" cy="36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0A86B-8F6C-4EA3-998E-F081F678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D505E-4CAC-439B-B2BE-7E81AA1B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735BD-A808-4F43-9EB0-38531DCC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F1962-CECE-4CF8-9FEE-D4D4945D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31284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31284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7351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73512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620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048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9954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2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467120" y="6324480"/>
            <a:ext cx="149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258480" y="6188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4"/>
          </p:nvPr>
        </p:nvSpPr>
        <p:spPr>
          <a:xfrm>
            <a:off x="7467480" y="6172200"/>
            <a:ext cx="151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DE4D-B82D-4DF4-848C-5F4F6AB240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2480" y="6143760"/>
            <a:ext cx="509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0" y="1200240"/>
            <a:ext cx="5867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fu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because s/he has reason to believe work endangers health or saf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1962000"/>
            <a:ext cx="5791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ports problem to supervisor/mana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495520"/>
            <a:ext cx="5791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presentative called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2952720"/>
            <a:ext cx="57913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pervisor investigates in presence of worker and worker represent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3409920"/>
            <a:ext cx="2361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es the supervisor agree that the situation endangers health and /or safe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409920"/>
            <a:ext cx="5652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562200"/>
            <a:ext cx="5634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3486240"/>
            <a:ext cx="40140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638520"/>
            <a:ext cx="52416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172040"/>
            <a:ext cx="2252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pervisor takes corrective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4933800"/>
            <a:ext cx="225252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turns to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943440"/>
            <a:ext cx="2438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es worker have reasonable grounds to believe work  still endangers health and/or safe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501012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pector called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4629240"/>
            <a:ext cx="5634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705200"/>
            <a:ext cx="5652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781520"/>
            <a:ext cx="40140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4705200"/>
            <a:ext cx="479160" cy="17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5391000"/>
            <a:ext cx="3278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spector investigates in presence of worker, employer and worker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presentati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5238720"/>
            <a:ext cx="1447920" cy="85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may be assigned reasonable alternat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592452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ritten 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305400"/>
            <a:ext cx="2895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rrective action if ord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226692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1733400"/>
            <a:ext cx="322200" cy="17172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28004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2576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295320" y="3439080"/>
            <a:ext cx="228600" cy="3222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346600">
            <a:off x="3239640" y="3522240"/>
            <a:ext cx="227160" cy="306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714840"/>
            <a:ext cx="342720" cy="1332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9434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4705200"/>
            <a:ext cx="322200" cy="17172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5645880" y="4850280"/>
            <a:ext cx="228600" cy="2430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892320" y="4622400"/>
            <a:ext cx="228600" cy="2412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5238720"/>
            <a:ext cx="322200" cy="954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5848200"/>
            <a:ext cx="322560" cy="954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6153120"/>
            <a:ext cx="327240" cy="954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48578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4629240"/>
            <a:ext cx="32256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5238720"/>
            <a:ext cx="828720" cy="171360"/>
          </a:xfrm>
          <a:prstGeom prst="leftRightArrow">
            <a:avLst>
              <a:gd name="adj1" fmla="val 50000"/>
              <a:gd name="adj2" fmla="val 962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3562200"/>
            <a:ext cx="80460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7480" y="1758960"/>
            <a:ext cx="8046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800440"/>
            <a:ext cx="874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501012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ight to Refuse Unsafe Work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6591240"/>
            <a:ext cx="428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Newcomers Connecting to Trades Apprenticeship Resources (NeCTA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4474B-C877-4176-B6AB-3CAF14FC7AB9}" type="slidenum">
              <a:t>1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52:31Z</dcterms:created>
  <dc:creator>Jane</dc:creator>
  <dc:description/>
  <dc:language>en-US</dc:language>
  <cp:lastModifiedBy>CFTPT</cp:lastModifiedBy>
  <dcterms:modified xsi:type="dcterms:W3CDTF">2005-08-04T17:24:02Z</dcterms:modified>
  <cp:revision>164</cp:revision>
  <dc:subject/>
  <dc:title>Newcomers Connecting to Trades Apprenticeship Resources (NeCTAR)</dc:title>
</cp:coreProperties>
</file>