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DA9-860A-412A-94DF-619A8D60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83D-667F-4B66-840B-D4373306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339-0A7F-44FB-A4DD-12E941E1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B8D-92FD-4F73-BBC7-1F532936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4DEE2-AF91-415E-80F6-2741CCC88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FC93F-0CB2-44AD-9AD8-A1A285C5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20B7D-9D42-4677-8DBD-F0FBBE2E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B68CF-FD7B-4203-8C15-C5759AA3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6DC3A-8A3B-47EC-9E62-980F363C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9890F-F18E-4E4F-B96E-C70C4416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CA477-7946-497D-AA14-ED8AF56D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B01-2BEC-49B3-A2AA-47E1D367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E44C7-6B85-4212-AC5F-BFA6D6BA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7E407-5DB4-48B7-9CA2-FA03E29C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8E2A6-28A4-46A6-B267-B5A58E1D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9D98A-CC20-4B57-803B-183F5B9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0065F-6552-4FF4-BA2D-B5B398B28A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D44-97E4-469B-BCF5-7FB69B40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D31-612D-4EEA-A7D2-B44CAFAB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734-0A39-4EF7-888F-8FB4A89A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3A0-D7EE-4229-9BD4-76383082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5ED-EC59-4B0D-8161-D29356D8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E42-7602-4C2E-BB1B-4FF54E8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F3F-FA62-4380-AD7F-E7DA11F2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17360"/>
            <a:ext cx="1294920" cy="1295640"/>
            <a:chOff x="76320" y="117360"/>
            <a:chExt cx="1294920" cy="1295640"/>
          </a:xfrm>
        </p:grpSpPr>
        <p:sp>
          <p:nvSpPr>
            <p:cNvPr id="1" name=""/>
            <p:cNvSpPr/>
            <p:nvPr/>
          </p:nvSpPr>
          <p:spPr>
            <a:xfrm>
              <a:off x="401760" y="250560"/>
              <a:ext cx="491760" cy="583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600" y="250560"/>
              <a:ext cx="367920" cy="5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1800" y="769320"/>
              <a:ext cx="472320" cy="585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57960" y="769320"/>
              <a:ext cx="413280" cy="5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680040"/>
              <a:ext cx="629280" cy="520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9120" y="117360"/>
              <a:ext cx="35280" cy="1295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31920" y="106380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71000" y="8432640"/>
            <a:ext cx="125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09120" y="843264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600880" y="8432640"/>
            <a:ext cx="111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0484-28E0-4DC8-86C3-5C37C3CA12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50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1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4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438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93320" y="8250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5600880" y="8229240"/>
            <a:ext cx="113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3EAC-DA02-428F-9588-1E7D390F28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191440"/>
            <a:ext cx="510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600200"/>
            <a:ext cx="5790960" cy="67816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Apprenticeship Pathway Flowchart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81160" y="1752480"/>
            <a:ext cx="2438280" cy="584280"/>
            <a:chOff x="1181160" y="1752480"/>
            <a:chExt cx="2438280" cy="584280"/>
          </a:xfrm>
        </p:grpSpPr>
        <p:sp>
          <p:nvSpPr>
            <p:cNvPr id="102" name=""/>
            <p:cNvSpPr/>
            <p:nvPr/>
          </p:nvSpPr>
          <p:spPr>
            <a:xfrm>
              <a:off x="1181160" y="1752480"/>
              <a:ext cx="2438280" cy="584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7920" y="1849680"/>
              <a:ext cx="190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 Visit  Employment Service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181160" y="7194600"/>
            <a:ext cx="2438280" cy="762120"/>
            <a:chOff x="1181160" y="7194600"/>
            <a:chExt cx="2438280" cy="762120"/>
          </a:xfrm>
        </p:grpSpPr>
        <p:sp>
          <p:nvSpPr>
            <p:cNvPr id="105" name=""/>
            <p:cNvSpPr/>
            <p:nvPr/>
          </p:nvSpPr>
          <p:spPr>
            <a:xfrm>
              <a:off x="1181160" y="7194600"/>
              <a:ext cx="243828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7560" y="7255080"/>
              <a:ext cx="1904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Register for Apprenticeship       (Fee: $4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181160" y="2562120"/>
            <a:ext cx="2438280" cy="762120"/>
            <a:chOff x="1181160" y="2562120"/>
            <a:chExt cx="2438280" cy="762120"/>
          </a:xfrm>
        </p:grpSpPr>
        <p:sp>
          <p:nvSpPr>
            <p:cNvPr id="108" name=""/>
            <p:cNvSpPr/>
            <p:nvPr/>
          </p:nvSpPr>
          <p:spPr>
            <a:xfrm>
              <a:off x="1181160" y="2562120"/>
              <a:ext cx="243828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2624040"/>
              <a:ext cx="2361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 Learn about Apprenticeship &amp; determine your elig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33600" y="5195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47960" y="4586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523960" y="8001000"/>
            <a:ext cx="457200" cy="304920"/>
            <a:chOff x="2523960" y="8001000"/>
            <a:chExt cx="457200" cy="304920"/>
          </a:xfrm>
        </p:grpSpPr>
        <p:sp>
          <p:nvSpPr>
            <p:cNvPr id="113" name=""/>
            <p:cNvSpPr/>
            <p:nvPr/>
          </p:nvSpPr>
          <p:spPr>
            <a:xfrm>
              <a:off x="2562120" y="800100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23960" y="80168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484280" y="4878360"/>
            <a:ext cx="1831680" cy="1103400"/>
            <a:chOff x="1484280" y="4878360"/>
            <a:chExt cx="1831680" cy="1103400"/>
          </a:xfrm>
        </p:grpSpPr>
        <p:sp>
          <p:nvSpPr>
            <p:cNvPr id="116" name=""/>
            <p:cNvSpPr/>
            <p:nvPr/>
          </p:nvSpPr>
          <p:spPr>
            <a:xfrm>
              <a:off x="1484280" y="4878360"/>
              <a:ext cx="183168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6160" y="51768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n obtain transcript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484280" y="3549600"/>
            <a:ext cx="1832040" cy="1103400"/>
            <a:chOff x="1484280" y="3549600"/>
            <a:chExt cx="1832040" cy="1103400"/>
          </a:xfrm>
        </p:grpSpPr>
        <p:sp>
          <p:nvSpPr>
            <p:cNvPr id="119" name=""/>
            <p:cNvSpPr/>
            <p:nvPr/>
          </p:nvSpPr>
          <p:spPr>
            <a:xfrm>
              <a:off x="1484280" y="3549600"/>
              <a:ext cx="183204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747960"/>
              <a:ext cx="144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eted Grade 12 (Grade 10 for TQAA)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181160" y="6207120"/>
            <a:ext cx="2438280" cy="762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647712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 Search for Spons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03" idx="2"/>
            <a:endCxn id="108" idx="0"/>
          </p:cNvCxnSpPr>
          <p:nvPr/>
        </p:nvCxnSpPr>
        <p:spPr>
          <a:xfrm>
            <a:off x="2400120" y="2308680"/>
            <a:ext cx="720" cy="25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8" idx="2"/>
            <a:endCxn id="119" idx="0"/>
          </p:cNvCxnSpPr>
          <p:nvPr/>
        </p:nvCxnSpPr>
        <p:spPr>
          <a:xfrm>
            <a:off x="2400480" y="3324240"/>
            <a:ext cx="36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9" idx="2"/>
            <a:endCxn id="116" idx="0"/>
          </p:cNvCxnSpPr>
          <p:nvPr/>
        </p:nvCxnSpPr>
        <p:spPr>
          <a:xfrm flipH="1">
            <a:off x="2400120" y="4653000"/>
            <a:ext cx="72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6" idx="2"/>
            <a:endCxn id="121" idx="0"/>
          </p:cNvCxnSpPr>
          <p:nvPr/>
        </p:nvCxnSpPr>
        <p:spPr>
          <a:xfrm>
            <a:off x="2400120" y="5981760"/>
            <a:ext cx="72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7" name=""/>
          <p:cNvGrpSpPr/>
          <p:nvPr/>
        </p:nvGrpSpPr>
        <p:grpSpPr>
          <a:xfrm>
            <a:off x="3819600" y="3809880"/>
            <a:ext cx="1673280" cy="584280"/>
            <a:chOff x="3819600" y="3809880"/>
            <a:chExt cx="1673280" cy="584280"/>
          </a:xfrm>
        </p:grpSpPr>
        <p:sp>
          <p:nvSpPr>
            <p:cNvPr id="128" name=""/>
            <p:cNvSpPr/>
            <p:nvPr/>
          </p:nvSpPr>
          <p:spPr>
            <a:xfrm>
              <a:off x="3819600" y="3809880"/>
              <a:ext cx="1673280" cy="584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4760" y="3873600"/>
              <a:ext cx="154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pgrade to required g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9600" y="5202360"/>
            <a:ext cx="1673280" cy="457200"/>
            <a:chOff x="3819600" y="5202360"/>
            <a:chExt cx="1673280" cy="457200"/>
          </a:xfrm>
        </p:grpSpPr>
        <p:sp>
          <p:nvSpPr>
            <p:cNvPr id="131" name=""/>
            <p:cNvSpPr/>
            <p:nvPr/>
          </p:nvSpPr>
          <p:spPr>
            <a:xfrm>
              <a:off x="3819600" y="5202360"/>
              <a:ext cx="1673280" cy="4572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84760" y="5292720"/>
              <a:ext cx="154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 the GED 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3" name=""/>
          <p:cNvCxnSpPr>
            <a:stCxn id="119" idx="3"/>
            <a:endCxn id="128" idx="1"/>
          </p:cNvCxnSpPr>
          <p:nvPr/>
        </p:nvCxnSpPr>
        <p:spPr>
          <a:xfrm>
            <a:off x="3316320" y="4101480"/>
            <a:ext cx="50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1" idx="2"/>
            <a:endCxn id="105" idx="0"/>
          </p:cNvCxnSpPr>
          <p:nvPr/>
        </p:nvCxnSpPr>
        <p:spPr>
          <a:xfrm>
            <a:off x="2400480" y="6969240"/>
            <a:ext cx="36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2438280" y="7924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16" idx="3"/>
            <a:endCxn id="131" idx="1"/>
          </p:cNvCxnSpPr>
          <p:nvPr/>
        </p:nvCxnSpPr>
        <p:spPr>
          <a:xfrm>
            <a:off x="3315960" y="543024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3276720" y="3886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28880" y="5938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8" idx="3"/>
            <a:endCxn id="121" idx="3"/>
          </p:cNvCxnSpPr>
          <p:nvPr/>
        </p:nvCxnSpPr>
        <p:spPr>
          <a:xfrm flipH="1">
            <a:off x="3619440" y="4102200"/>
            <a:ext cx="1873800" cy="2486520"/>
          </a:xfrm>
          <a:prstGeom prst="bentConnector3">
            <a:avLst>
              <a:gd name="adj1" fmla="val -123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/>
          <p:nvPr/>
        </p:nvCxnSpPr>
        <p:spPr>
          <a:xfrm flipH="1">
            <a:off x="3580920" y="5410080"/>
            <a:ext cx="1912320" cy="1185120"/>
          </a:xfrm>
          <a:prstGeom prst="bentConnector3">
            <a:avLst>
              <a:gd name="adj1" fmla="val -11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5715000" y="6324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317400" y="-153288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.  Apprenticeship Appl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renticeship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2A4-7619-4810-A8E0-F6AA508109C1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523880"/>
            <a:ext cx="6248160" cy="693432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9080"/>
            <a:ext cx="5943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Apprenticeship Pathway Flowchart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421080" y="1562040"/>
            <a:ext cx="495360" cy="381240"/>
            <a:chOff x="3421080" y="1562040"/>
            <a:chExt cx="495360" cy="381240"/>
          </a:xfrm>
        </p:grpSpPr>
        <p:sp>
          <p:nvSpPr>
            <p:cNvPr id="147" name=""/>
            <p:cNvSpPr/>
            <p:nvPr/>
          </p:nvSpPr>
          <p:spPr>
            <a:xfrm>
              <a:off x="3421080" y="15620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459240" y="1579680"/>
              <a:ext cx="457200" cy="304920"/>
              <a:chOff x="3459240" y="1579680"/>
              <a:chExt cx="457200" cy="304920"/>
            </a:xfrm>
          </p:grpSpPr>
          <p:sp>
            <p:nvSpPr>
              <p:cNvPr id="149" name=""/>
              <p:cNvSpPr/>
              <p:nvPr/>
            </p:nvSpPr>
            <p:spPr>
              <a:xfrm>
                <a:off x="3497400" y="1579680"/>
                <a:ext cx="342720" cy="30492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59240" y="159552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2857680" y="2975040"/>
            <a:ext cx="1143000" cy="914400"/>
            <a:chOff x="2857680" y="2975040"/>
            <a:chExt cx="1143000" cy="914400"/>
          </a:xfrm>
        </p:grpSpPr>
        <p:sp>
          <p:nvSpPr>
            <p:cNvPr id="152" name=""/>
            <p:cNvSpPr/>
            <p:nvPr/>
          </p:nvSpPr>
          <p:spPr>
            <a:xfrm>
              <a:off x="2857680" y="2975040"/>
              <a:ext cx="1143000" cy="914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0320" y="320364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A Trad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186080" y="3211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81160" y="3973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718160" y="4483080"/>
            <a:ext cx="1673280" cy="507960"/>
            <a:chOff x="4718160" y="4483080"/>
            <a:chExt cx="1673280" cy="507960"/>
          </a:xfrm>
        </p:grpSpPr>
        <p:sp>
          <p:nvSpPr>
            <p:cNvPr id="157" name=""/>
            <p:cNvSpPr/>
            <p:nvPr/>
          </p:nvSpPr>
          <p:spPr>
            <a:xfrm>
              <a:off x="4718160" y="4483080"/>
              <a:ext cx="167328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83320" y="4508280"/>
              <a:ext cx="154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-CLASS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880" y="4483080"/>
            <a:ext cx="1673280" cy="507960"/>
            <a:chOff x="434880" y="4483080"/>
            <a:chExt cx="1673280" cy="507960"/>
          </a:xfrm>
        </p:grpSpPr>
        <p:sp>
          <p:nvSpPr>
            <p:cNvPr id="160" name=""/>
            <p:cNvSpPr/>
            <p:nvPr/>
          </p:nvSpPr>
          <p:spPr>
            <a:xfrm>
              <a:off x="434880" y="4483080"/>
              <a:ext cx="167328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040" y="4508280"/>
              <a:ext cx="154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-THE-JOB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47560" y="6553080"/>
            <a:ext cx="1447920" cy="1370880"/>
            <a:chOff x="547560" y="6553080"/>
            <a:chExt cx="1447920" cy="1370880"/>
          </a:xfrm>
        </p:grpSpPr>
        <p:sp>
          <p:nvSpPr>
            <p:cNvPr id="163" name=""/>
            <p:cNvSpPr/>
            <p:nvPr/>
          </p:nvSpPr>
          <p:spPr>
            <a:xfrm>
              <a:off x="547560" y="6553080"/>
              <a:ext cx="1447920" cy="13708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2280" y="6620760"/>
              <a:ext cx="1337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loyers has authority to “sign off” competencies demonstrated on the jo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1" idx="0"/>
            <a:endCxn id="158" idx="0"/>
          </p:cNvCxnSpPr>
          <p:nvPr/>
        </p:nvCxnSpPr>
        <p:spPr>
          <a:xfrm flipH="1" rot="16200000">
            <a:off x="3413520" y="2367720"/>
            <a:ext cx="2160" cy="4283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429000" y="38862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905360" y="3125880"/>
            <a:ext cx="685800" cy="609480"/>
            <a:chOff x="4905360" y="3125880"/>
            <a:chExt cx="685800" cy="609480"/>
          </a:xfrm>
        </p:grpSpPr>
        <p:sp>
          <p:nvSpPr>
            <p:cNvPr id="168" name=""/>
            <p:cNvSpPr/>
            <p:nvPr/>
          </p:nvSpPr>
          <p:spPr>
            <a:xfrm>
              <a:off x="4924440" y="3125880"/>
              <a:ext cx="647640" cy="60948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05360" y="32018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QAA 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562720" y="3173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’d. next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3349080" y="-158220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 Apprenticeship Training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14720" y="1943280"/>
            <a:ext cx="2438280" cy="761760"/>
            <a:chOff x="2214720" y="1943280"/>
            <a:chExt cx="2438280" cy="761760"/>
          </a:xfrm>
        </p:grpSpPr>
        <p:sp>
          <p:nvSpPr>
            <p:cNvPr id="173" name=""/>
            <p:cNvSpPr/>
            <p:nvPr/>
          </p:nvSpPr>
          <p:spPr>
            <a:xfrm>
              <a:off x="2214720" y="1943280"/>
              <a:ext cx="2438280" cy="761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2520" y="2004840"/>
              <a:ext cx="2361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Review prior training and experience with Sponsor and Training Consult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8720" y="5332320"/>
            <a:ext cx="1425600" cy="884160"/>
            <a:chOff x="558720" y="5332320"/>
            <a:chExt cx="1425600" cy="884160"/>
          </a:xfrm>
        </p:grpSpPr>
        <p:sp>
          <p:nvSpPr>
            <p:cNvPr id="176" name=""/>
            <p:cNvSpPr/>
            <p:nvPr/>
          </p:nvSpPr>
          <p:spPr>
            <a:xfrm>
              <a:off x="558720" y="5332320"/>
              <a:ext cx="142560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4880" y="554508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or work  experienc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830840" y="6553080"/>
            <a:ext cx="1447560" cy="1751760"/>
            <a:chOff x="4830840" y="6553080"/>
            <a:chExt cx="1447560" cy="1751760"/>
          </a:xfrm>
        </p:grpSpPr>
        <p:sp>
          <p:nvSpPr>
            <p:cNvPr id="179" name=""/>
            <p:cNvSpPr/>
            <p:nvPr/>
          </p:nvSpPr>
          <p:spPr>
            <a:xfrm>
              <a:off x="4830840" y="6553080"/>
              <a:ext cx="1447560" cy="1751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85560" y="6639840"/>
              <a:ext cx="13374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ou may be eligible for exemption tests.  If no exemption test is available, attend a PLAR Assessme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842000" y="5332320"/>
            <a:ext cx="1425600" cy="884160"/>
            <a:chOff x="4842000" y="5332320"/>
            <a:chExt cx="1425600" cy="884160"/>
          </a:xfrm>
        </p:grpSpPr>
        <p:sp>
          <p:nvSpPr>
            <p:cNvPr id="182" name=""/>
            <p:cNvSpPr/>
            <p:nvPr/>
          </p:nvSpPr>
          <p:spPr>
            <a:xfrm>
              <a:off x="4842000" y="5332320"/>
              <a:ext cx="142560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88160" y="554508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or train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61" idx="2"/>
            <a:endCxn id="176" idx="0"/>
          </p:cNvCxnSpPr>
          <p:nvPr/>
        </p:nvCxnSpPr>
        <p:spPr>
          <a:xfrm flipH="1">
            <a:off x="1270800" y="4965840"/>
            <a:ext cx="252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6" idx="2"/>
            <a:endCxn id="163" idx="0"/>
          </p:cNvCxnSpPr>
          <p:nvPr/>
        </p:nvCxnSpPr>
        <p:spPr>
          <a:xfrm>
            <a:off x="1271160" y="621612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58" idx="2"/>
            <a:endCxn id="182" idx="0"/>
          </p:cNvCxnSpPr>
          <p:nvPr/>
        </p:nvCxnSpPr>
        <p:spPr>
          <a:xfrm flipH="1">
            <a:off x="5554440" y="4965840"/>
            <a:ext cx="216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2" idx="2"/>
            <a:endCxn id="179" idx="0"/>
          </p:cNvCxnSpPr>
          <p:nvPr/>
        </p:nvCxnSpPr>
        <p:spPr>
          <a:xfrm>
            <a:off x="5554440" y="621612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809640" y="6229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76760" y="6219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09680" y="5521320"/>
            <a:ext cx="914400" cy="507960"/>
            <a:chOff x="2209680" y="5521320"/>
            <a:chExt cx="914400" cy="507960"/>
          </a:xfrm>
        </p:grpSpPr>
        <p:sp>
          <p:nvSpPr>
            <p:cNvPr id="191" name=""/>
            <p:cNvSpPr/>
            <p:nvPr/>
          </p:nvSpPr>
          <p:spPr>
            <a:xfrm>
              <a:off x="2209680" y="5521320"/>
              <a:ext cx="91440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44240" y="5546520"/>
              <a:ext cx="84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Step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733920" y="5519880"/>
            <a:ext cx="914400" cy="507960"/>
            <a:chOff x="3733920" y="5519880"/>
            <a:chExt cx="914400" cy="507960"/>
          </a:xfrm>
        </p:grpSpPr>
        <p:sp>
          <p:nvSpPr>
            <p:cNvPr id="194" name=""/>
            <p:cNvSpPr/>
            <p:nvPr/>
          </p:nvSpPr>
          <p:spPr>
            <a:xfrm>
              <a:off x="3733920" y="5519880"/>
              <a:ext cx="91440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68480" y="5545080"/>
              <a:ext cx="84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Step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77" idx="3"/>
            <a:endCxn id="191" idx="1"/>
          </p:cNvCxnSpPr>
          <p:nvPr/>
        </p:nvCxnSpPr>
        <p:spPr>
          <a:xfrm>
            <a:off x="1923840" y="5773320"/>
            <a:ext cx="286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2" idx="1"/>
            <a:endCxn id="195" idx="3"/>
          </p:cNvCxnSpPr>
          <p:nvPr/>
        </p:nvCxnSpPr>
        <p:spPr>
          <a:xfrm flipH="1" flipV="1">
            <a:off x="4612680" y="577296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838160" y="54770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14840" y="5452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4383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3" idx="2"/>
            <a:endCxn id="152" idx="0"/>
          </p:cNvCxnSpPr>
          <p:nvPr/>
        </p:nvCxnSpPr>
        <p:spPr>
          <a:xfrm flipH="1">
            <a:off x="3428280" y="2705040"/>
            <a:ext cx="54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renticeship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E23-56EA-43E1-8255-51EEDF408355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1676520"/>
            <a:ext cx="6248160" cy="67816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9080"/>
            <a:ext cx="5943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Apprenticeship Pathway Flowchart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168640" y="3970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187800" y="4479840"/>
            <a:ext cx="1673280" cy="507960"/>
            <a:chOff x="3187800" y="4479840"/>
            <a:chExt cx="1673280" cy="507960"/>
          </a:xfrm>
        </p:grpSpPr>
        <p:sp>
          <p:nvSpPr>
            <p:cNvPr id="207" name=""/>
            <p:cNvSpPr/>
            <p:nvPr/>
          </p:nvSpPr>
          <p:spPr>
            <a:xfrm>
              <a:off x="3187800" y="4479840"/>
              <a:ext cx="167328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52960" y="4505040"/>
              <a:ext cx="154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-CLASS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34880" y="4479840"/>
            <a:ext cx="1673280" cy="507960"/>
            <a:chOff x="434880" y="4479840"/>
            <a:chExt cx="1673280" cy="507960"/>
          </a:xfrm>
        </p:grpSpPr>
        <p:sp>
          <p:nvSpPr>
            <p:cNvPr id="210" name=""/>
            <p:cNvSpPr/>
            <p:nvPr/>
          </p:nvSpPr>
          <p:spPr>
            <a:xfrm>
              <a:off x="434880" y="4479840"/>
              <a:ext cx="167328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0040" y="4505040"/>
              <a:ext cx="154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-THE-JOB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09760" y="6613560"/>
            <a:ext cx="1509480" cy="1526040"/>
            <a:chOff x="509760" y="6613560"/>
            <a:chExt cx="1509480" cy="1526040"/>
          </a:xfrm>
        </p:grpSpPr>
        <p:sp>
          <p:nvSpPr>
            <p:cNvPr id="213" name=""/>
            <p:cNvSpPr/>
            <p:nvPr/>
          </p:nvSpPr>
          <p:spPr>
            <a:xfrm>
              <a:off x="509760" y="6613560"/>
              <a:ext cx="1509480" cy="15260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6640" y="6689160"/>
              <a:ext cx="1394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ou may have your hours reduced on your contract of apprenticeship with required documentatio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5" name=""/>
          <p:cNvCxnSpPr>
            <a:stCxn id="211" idx="0"/>
            <a:endCxn id="208" idx="0"/>
          </p:cNvCxnSpPr>
          <p:nvPr/>
        </p:nvCxnSpPr>
        <p:spPr>
          <a:xfrm flipH="1" rot="16200000">
            <a:off x="2648880" y="3129480"/>
            <a:ext cx="2160" cy="2753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 rot="16200000">
            <a:off x="3450600" y="-146844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Apprenticeship Training Preparation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58720" y="5214960"/>
            <a:ext cx="1425600" cy="884160"/>
            <a:chOff x="558720" y="5214960"/>
            <a:chExt cx="1425600" cy="884160"/>
          </a:xfrm>
        </p:grpSpPr>
        <p:sp>
          <p:nvSpPr>
            <p:cNvPr id="218" name=""/>
            <p:cNvSpPr/>
            <p:nvPr/>
          </p:nvSpPr>
          <p:spPr>
            <a:xfrm>
              <a:off x="558720" y="5214960"/>
              <a:ext cx="142560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880" y="542772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or work  experienc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876920" y="5130720"/>
            <a:ext cx="1523880" cy="1403280"/>
            <a:chOff x="4876920" y="5130720"/>
            <a:chExt cx="1523880" cy="1403280"/>
          </a:xfrm>
        </p:grpSpPr>
        <p:sp>
          <p:nvSpPr>
            <p:cNvPr id="221" name=""/>
            <p:cNvSpPr/>
            <p:nvPr/>
          </p:nvSpPr>
          <p:spPr>
            <a:xfrm>
              <a:off x="4876920" y="5130720"/>
              <a:ext cx="1523880" cy="1403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30920" y="5141880"/>
              <a:ext cx="1385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ou may be eligible for exemption tests.  If no test is available, attend a PLAR Assessme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476520" y="5386320"/>
            <a:ext cx="1095480" cy="884160"/>
            <a:chOff x="3476520" y="5386320"/>
            <a:chExt cx="1095480" cy="884160"/>
          </a:xfrm>
        </p:grpSpPr>
        <p:sp>
          <p:nvSpPr>
            <p:cNvPr id="224" name=""/>
            <p:cNvSpPr/>
            <p:nvPr/>
          </p:nvSpPr>
          <p:spPr>
            <a:xfrm>
              <a:off x="3476520" y="5386320"/>
              <a:ext cx="109548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88840" y="5599080"/>
              <a:ext cx="9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or train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6" name=""/>
          <p:cNvCxnSpPr>
            <a:stCxn id="211" idx="2"/>
            <a:endCxn id="218" idx="0"/>
          </p:cNvCxnSpPr>
          <p:nvPr/>
        </p:nvCxnSpPr>
        <p:spPr>
          <a:xfrm flipH="1">
            <a:off x="1270800" y="4962240"/>
            <a:ext cx="252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8" idx="2"/>
            <a:endCxn id="213" idx="0"/>
          </p:cNvCxnSpPr>
          <p:nvPr/>
        </p:nvCxnSpPr>
        <p:spPr>
          <a:xfrm flipH="1">
            <a:off x="1264680" y="6098760"/>
            <a:ext cx="68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08" idx="2"/>
            <a:endCxn id="224" idx="0"/>
          </p:cNvCxnSpPr>
          <p:nvPr/>
        </p:nvCxnSpPr>
        <p:spPr>
          <a:xfrm flipH="1">
            <a:off x="4024080" y="4962240"/>
            <a:ext cx="216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809640" y="6111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5499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09680" y="5403960"/>
            <a:ext cx="762120" cy="507960"/>
            <a:chOff x="2209680" y="5403960"/>
            <a:chExt cx="762120" cy="507960"/>
          </a:xfrm>
        </p:grpSpPr>
        <p:sp>
          <p:nvSpPr>
            <p:cNvPr id="232" name=""/>
            <p:cNvSpPr/>
            <p:nvPr/>
          </p:nvSpPr>
          <p:spPr>
            <a:xfrm>
              <a:off x="2209680" y="5403960"/>
              <a:ext cx="76212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38480" y="5429160"/>
              <a:ext cx="70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Step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4" name=""/>
          <p:cNvCxnSpPr>
            <a:stCxn id="219" idx="3"/>
            <a:endCxn id="232" idx="1"/>
          </p:cNvCxnSpPr>
          <p:nvPr/>
        </p:nvCxnSpPr>
        <p:spPr>
          <a:xfrm>
            <a:off x="1923840" y="565632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1838160" y="5359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476520" y="6859440"/>
            <a:ext cx="1095480" cy="884160"/>
            <a:chOff x="3476520" y="6859440"/>
            <a:chExt cx="1095480" cy="884160"/>
          </a:xfrm>
        </p:grpSpPr>
        <p:sp>
          <p:nvSpPr>
            <p:cNvPr id="237" name=""/>
            <p:cNvSpPr/>
            <p:nvPr/>
          </p:nvSpPr>
          <p:spPr>
            <a:xfrm>
              <a:off x="3476520" y="6859440"/>
              <a:ext cx="109548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78400" y="715608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ade12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876920" y="6730920"/>
            <a:ext cx="1523520" cy="1143000"/>
            <a:chOff x="4876920" y="6730920"/>
            <a:chExt cx="1523520" cy="1143000"/>
          </a:xfrm>
        </p:grpSpPr>
        <p:sp>
          <p:nvSpPr>
            <p:cNvPr id="240" name=""/>
            <p:cNvSpPr/>
            <p:nvPr/>
          </p:nvSpPr>
          <p:spPr>
            <a:xfrm>
              <a:off x="4876920" y="6730920"/>
              <a:ext cx="1523520" cy="11430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31640" y="6785640"/>
              <a:ext cx="13842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ou may have your hours reduced on your contract of apprenticeshi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368960" y="69213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24" idx="3"/>
            <a:endCxn id="221" idx="1"/>
          </p:cNvCxnSpPr>
          <p:nvPr/>
        </p:nvCxnSpPr>
        <p:spPr>
          <a:xfrm>
            <a:off x="4571640" y="5829480"/>
            <a:ext cx="30564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7" idx="3"/>
            <a:endCxn id="240" idx="1"/>
          </p:cNvCxnSpPr>
          <p:nvPr/>
        </p:nvCxnSpPr>
        <p:spPr>
          <a:xfrm>
            <a:off x="4571640" y="73022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4" idx="2"/>
            <a:endCxn id="237" idx="0"/>
          </p:cNvCxnSpPr>
          <p:nvPr/>
        </p:nvCxnSpPr>
        <p:spPr>
          <a:xfrm>
            <a:off x="4024080" y="6270480"/>
            <a:ext cx="108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3632040" y="6603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416400" y="7975440"/>
            <a:ext cx="1218960" cy="330480"/>
            <a:chOff x="3416400" y="7975440"/>
            <a:chExt cx="1218960" cy="330480"/>
          </a:xfrm>
        </p:grpSpPr>
        <p:sp>
          <p:nvSpPr>
            <p:cNvPr id="248" name=""/>
            <p:cNvSpPr/>
            <p:nvPr/>
          </p:nvSpPr>
          <p:spPr>
            <a:xfrm>
              <a:off x="3416400" y="7975440"/>
              <a:ext cx="1218960" cy="330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63560" y="799056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Step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" name=""/>
          <p:cNvCxnSpPr>
            <a:stCxn id="237" idx="2"/>
            <a:endCxn id="249" idx="0"/>
          </p:cNvCxnSpPr>
          <p:nvPr/>
        </p:nvCxnSpPr>
        <p:spPr>
          <a:xfrm>
            <a:off x="4024440" y="7743960"/>
            <a:ext cx="216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3632040" y="77216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03520" y="1727280"/>
            <a:ext cx="495360" cy="380880"/>
            <a:chOff x="2603520" y="1727280"/>
            <a:chExt cx="495360" cy="380880"/>
          </a:xfrm>
        </p:grpSpPr>
        <p:sp>
          <p:nvSpPr>
            <p:cNvPr id="253" name=""/>
            <p:cNvSpPr/>
            <p:nvPr/>
          </p:nvSpPr>
          <p:spPr>
            <a:xfrm>
              <a:off x="2603520" y="1727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641680" y="1744560"/>
              <a:ext cx="457200" cy="304560"/>
              <a:chOff x="2641680" y="1744560"/>
              <a:chExt cx="457200" cy="304560"/>
            </a:xfrm>
          </p:grpSpPr>
          <p:sp>
            <p:nvSpPr>
              <p:cNvPr id="255" name=""/>
              <p:cNvSpPr/>
              <p:nvPr/>
            </p:nvSpPr>
            <p:spPr>
              <a:xfrm>
                <a:off x="2679840" y="1744560"/>
                <a:ext cx="342720" cy="30456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41680" y="176004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1397160" y="2095560"/>
            <a:ext cx="2438280" cy="762120"/>
            <a:chOff x="1397160" y="2095560"/>
            <a:chExt cx="2438280" cy="762120"/>
          </a:xfrm>
        </p:grpSpPr>
        <p:sp>
          <p:nvSpPr>
            <p:cNvPr id="258" name=""/>
            <p:cNvSpPr/>
            <p:nvPr/>
          </p:nvSpPr>
          <p:spPr>
            <a:xfrm>
              <a:off x="1397160" y="2095560"/>
              <a:ext cx="243828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34960" y="2157480"/>
              <a:ext cx="2361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Review prior training and experience with Sponsor and Training Consult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0" name=""/>
          <p:cNvCxnSpPr/>
          <p:nvPr/>
        </p:nvCxnSpPr>
        <p:spPr>
          <a:xfrm flipH="1">
            <a:off x="2610720" y="2882880"/>
            <a:ext cx="54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1" name=""/>
          <p:cNvGrpSpPr/>
          <p:nvPr/>
        </p:nvGrpSpPr>
        <p:grpSpPr>
          <a:xfrm>
            <a:off x="2044800" y="3124080"/>
            <a:ext cx="1143000" cy="914400"/>
            <a:chOff x="2044800" y="3124080"/>
            <a:chExt cx="1143000" cy="914400"/>
          </a:xfrm>
        </p:grpSpPr>
        <p:sp>
          <p:nvSpPr>
            <p:cNvPr id="262" name=""/>
            <p:cNvSpPr/>
            <p:nvPr/>
          </p:nvSpPr>
          <p:spPr>
            <a:xfrm>
              <a:off x="2044800" y="3124080"/>
              <a:ext cx="1143000" cy="914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97440" y="33526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QAA Trad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616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renticeship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6E3-3F0A-4900-8651-98A42EF963F3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3520" y="1600200"/>
            <a:ext cx="5790960" cy="67816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19080"/>
            <a:ext cx="5943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Apprenticeship Pathway Flowchart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4419720" y="4432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541600" y="4118040"/>
            <a:ext cx="1832040" cy="1103400"/>
            <a:chOff x="2541600" y="4118040"/>
            <a:chExt cx="1832040" cy="1103400"/>
          </a:xfrm>
        </p:grpSpPr>
        <p:sp>
          <p:nvSpPr>
            <p:cNvPr id="270" name=""/>
            <p:cNvSpPr/>
            <p:nvPr/>
          </p:nvSpPr>
          <p:spPr>
            <a:xfrm>
              <a:off x="2541600" y="4118040"/>
              <a:ext cx="183204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2280" y="441648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tricted or Compulsory Trad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981080" y="4413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95400" y="5450040"/>
            <a:ext cx="1828800" cy="1941480"/>
            <a:chOff x="995400" y="5450040"/>
            <a:chExt cx="1828800" cy="1941480"/>
          </a:xfrm>
        </p:grpSpPr>
        <p:sp>
          <p:nvSpPr>
            <p:cNvPr id="274" name=""/>
            <p:cNvSpPr/>
            <p:nvPr/>
          </p:nvSpPr>
          <p:spPr>
            <a:xfrm>
              <a:off x="995400" y="5450040"/>
              <a:ext cx="1828800" cy="1941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553000"/>
              <a:ext cx="168768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f exam exists for the trade, you may apply for the C of Q Exam on a voluntary basis.      If so, go to Certification Pathway Flowchart (Step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, Preparing for Certifica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065480" y="5494320"/>
            <a:ext cx="1828800" cy="1058760"/>
            <a:chOff x="4065480" y="5494320"/>
            <a:chExt cx="1828800" cy="1058760"/>
          </a:xfrm>
        </p:grpSpPr>
        <p:sp>
          <p:nvSpPr>
            <p:cNvPr id="277" name=""/>
            <p:cNvSpPr/>
            <p:nvPr/>
          </p:nvSpPr>
          <p:spPr>
            <a:xfrm>
              <a:off x="4065480" y="5494320"/>
              <a:ext cx="1828800" cy="1058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35320" y="5651640"/>
              <a:ext cx="1687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Certification Pathway Flowchart (Step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, Preparing for Certifica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45456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0" idx="3"/>
            <a:endCxn id="277" idx="0"/>
          </p:cNvCxnSpPr>
          <p:nvPr/>
        </p:nvCxnSpPr>
        <p:spPr>
          <a:xfrm>
            <a:off x="4373640" y="4669920"/>
            <a:ext cx="606960" cy="82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0" idx="1"/>
            <a:endCxn id="274" idx="0"/>
          </p:cNvCxnSpPr>
          <p:nvPr/>
        </p:nvCxnSpPr>
        <p:spPr>
          <a:xfrm flipV="1" rot="10800000">
            <a:off x="1909080" y="4669920"/>
            <a:ext cx="632520" cy="780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 rot="16200000">
            <a:off x="3269880" y="-159480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 Obtain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22960" y="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816200" y="2057400"/>
            <a:ext cx="3276360" cy="609480"/>
            <a:chOff x="1816200" y="2057400"/>
            <a:chExt cx="3276360" cy="609480"/>
          </a:xfrm>
        </p:grpSpPr>
        <p:sp>
          <p:nvSpPr>
            <p:cNvPr id="285" name=""/>
            <p:cNvSpPr/>
            <p:nvPr/>
          </p:nvSpPr>
          <p:spPr>
            <a:xfrm>
              <a:off x="1816200" y="2057400"/>
              <a:ext cx="327636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92160" y="2133720"/>
              <a:ext cx="3123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Complete On-the-Job Training and  In-class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816200" y="3124080"/>
            <a:ext cx="3276360" cy="609480"/>
            <a:chOff x="1816200" y="3124080"/>
            <a:chExt cx="3276360" cy="609480"/>
          </a:xfrm>
        </p:grpSpPr>
        <p:sp>
          <p:nvSpPr>
            <p:cNvPr id="288" name=""/>
            <p:cNvSpPr/>
            <p:nvPr/>
          </p:nvSpPr>
          <p:spPr>
            <a:xfrm>
              <a:off x="1816200" y="3124080"/>
              <a:ext cx="327636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92160" y="3290760"/>
              <a:ext cx="312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.  Apply for Cer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0" name=""/>
          <p:cNvCxnSpPr>
            <a:stCxn id="285" idx="2"/>
            <a:endCxn id="288" idx="0"/>
          </p:cNvCxnSpPr>
          <p:nvPr/>
        </p:nvCxnSpPr>
        <p:spPr>
          <a:xfrm>
            <a:off x="3454200" y="2666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8" idx="2"/>
            <a:endCxn id="270" idx="0"/>
          </p:cNvCxnSpPr>
          <p:nvPr/>
        </p:nvCxnSpPr>
        <p:spPr>
          <a:xfrm>
            <a:off x="3454560" y="3733560"/>
            <a:ext cx="360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renticeship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556-860D-4C23-BE53-98E5698CC503}" type="slidenum">
              <a:t>4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Carolyn</cp:lastModifiedBy>
  <dcterms:modified xsi:type="dcterms:W3CDTF">2005-08-24T19:08:13Z</dcterms:modified>
  <cp:revision>159</cp:revision>
  <dc:subject/>
  <dc:title>Newcomers Connecting to Trades Apprenticeship Resources (NeCTAR)</dc:title>
</cp:coreProperties>
</file>