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BEE-4C28-4157-8E5E-75EE08CA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59A-28BE-4B54-ACD2-8771E9EE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F2F-3ABF-40B9-BE58-40294E6D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997-5EEE-4AC1-81CB-BB67E613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A4FB1-B34D-465D-B063-8052D6ABE6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A8705-F54A-42B6-905F-B4E8490F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040E1-B843-485D-AAFC-0F235D49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3C740-259D-40DF-B8F5-8E9AEB6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8906F-E033-443C-AB68-092E46D7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324B9-1CE5-4D3A-ABD8-0ACEBDE5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35BE6-B136-40CD-8CCC-A2FE9A98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7DF-6FA8-44D7-AE35-8A82726B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8A631-1621-43A5-8144-A4906A5C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8E981-F7F3-483C-B531-814167E7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A2047-AC4C-4C1C-82B8-7CEFA614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A67FC-7AA3-4414-9A07-1FB5A64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2E53D-13B9-43F0-8846-026812CBC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DD5-EF3F-4DA6-A9E3-6A5585EE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82D-4247-4CB2-A02D-0B25A22B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C87-78EB-4195-B38F-55CA8112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2E3-A7C3-44C3-9712-9E615811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478-3E9D-41E3-902E-A382D062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673-91AB-4CB2-A89A-151CFA88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DAA-E30E-480E-9962-C4600C2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43264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EBA1-ED7F-495C-9335-AD1E6F485E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9547-8DAB-4E39-909A-B27F22C7D6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981080"/>
            <a:ext cx="5790960" cy="640080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1880" y="456840"/>
            <a:ext cx="56134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267360" y="-851040"/>
            <a:ext cx="454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MTCU Assessment Prepa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09680" y="2311560"/>
            <a:ext cx="3396960" cy="6070320"/>
            <a:chOff x="2209680" y="2311560"/>
            <a:chExt cx="3396960" cy="6070320"/>
          </a:xfrm>
        </p:grpSpPr>
        <p:grpSp>
          <p:nvGrpSpPr>
            <p:cNvPr id="103" name=""/>
            <p:cNvGrpSpPr/>
            <p:nvPr/>
          </p:nvGrpSpPr>
          <p:grpSpPr>
            <a:xfrm>
              <a:off x="2209680" y="2311560"/>
              <a:ext cx="2438280" cy="685800"/>
              <a:chOff x="2209680" y="2311560"/>
              <a:chExt cx="2438280" cy="685800"/>
            </a:xfrm>
          </p:grpSpPr>
          <p:sp>
            <p:nvSpPr>
              <p:cNvPr id="104" name=""/>
              <p:cNvSpPr/>
              <p:nvPr/>
            </p:nvSpPr>
            <p:spPr>
              <a:xfrm>
                <a:off x="2209680" y="2311560"/>
                <a:ext cx="2438280" cy="6858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6440" y="2426040"/>
                <a:ext cx="1904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.  Visit  Employment Service Provi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09680" y="3556080"/>
              <a:ext cx="2438280" cy="685800"/>
              <a:chOff x="2209680" y="3556080"/>
              <a:chExt cx="2438280" cy="685800"/>
            </a:xfrm>
          </p:grpSpPr>
          <p:sp>
            <p:nvSpPr>
              <p:cNvPr id="107" name=""/>
              <p:cNvSpPr/>
              <p:nvPr/>
            </p:nvSpPr>
            <p:spPr>
              <a:xfrm>
                <a:off x="2209680" y="3556080"/>
                <a:ext cx="2438280" cy="6858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76440" y="3670560"/>
                <a:ext cx="1904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.  Arrange documen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362320" y="4802040"/>
              <a:ext cx="2133360" cy="1371600"/>
              <a:chOff x="2362320" y="4802040"/>
              <a:chExt cx="21333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2362320" y="4802040"/>
                <a:ext cx="2133360" cy="137160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95480" y="5168880"/>
                <a:ext cx="1066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cuments in English or Frenc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209680" y="6777000"/>
              <a:ext cx="2438280" cy="685800"/>
              <a:chOff x="2209680" y="6777000"/>
              <a:chExt cx="2438280" cy="685800"/>
            </a:xfrm>
          </p:grpSpPr>
          <p:sp>
            <p:nvSpPr>
              <p:cNvPr id="113" name=""/>
              <p:cNvSpPr/>
              <p:nvPr/>
            </p:nvSpPr>
            <p:spPr>
              <a:xfrm>
                <a:off x="2209680" y="6777000"/>
                <a:ext cx="2438280" cy="6858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76440" y="6891480"/>
                <a:ext cx="1904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.  Get documents transl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5" name=""/>
            <p:cNvCxnSpPr>
              <a:stCxn id="104" idx="2"/>
              <a:endCxn id="107" idx="0"/>
            </p:cNvCxnSpPr>
            <p:nvPr/>
          </p:nvCxnSpPr>
          <p:spPr>
            <a:xfrm>
              <a:off x="3429000" y="2997360"/>
              <a:ext cx="360" cy="55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07" idx="2"/>
              <a:endCxn id="110" idx="0"/>
            </p:cNvCxnSpPr>
            <p:nvPr/>
          </p:nvCxnSpPr>
          <p:spPr>
            <a:xfrm>
              <a:off x="3429000" y="424188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0" idx="2"/>
              <a:endCxn id="113" idx="0"/>
            </p:cNvCxnSpPr>
            <p:nvPr/>
          </p:nvCxnSpPr>
          <p:spPr>
            <a:xfrm>
              <a:off x="3429000" y="6173640"/>
              <a:ext cx="360" cy="60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3429000" y="63244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7760" y="52434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99" idx="2"/>
            </p:cNvCxnSpPr>
            <p:nvPr/>
          </p:nvCxnSpPr>
          <p:spPr>
            <a:xfrm>
              <a:off x="3429000" y="7462800"/>
              <a:ext cx="360" cy="91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/>
            <p:nvPr/>
          </p:nvCxnSpPr>
          <p:spPr>
            <a:xfrm flipH="1">
              <a:off x="3428280" y="5486040"/>
              <a:ext cx="1067400" cy="2894760"/>
            </a:xfrm>
            <a:prstGeom prst="bentConnector4">
              <a:avLst>
                <a:gd name="adj1" fmla="val -104149"/>
                <a:gd name="adj2" fmla="val 812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2" name=""/>
            <p:cNvGrpSpPr/>
            <p:nvPr/>
          </p:nvGrpSpPr>
          <p:grpSpPr>
            <a:xfrm>
              <a:off x="2959200" y="8048520"/>
              <a:ext cx="457200" cy="304920"/>
              <a:chOff x="2959200" y="8048520"/>
              <a:chExt cx="457200" cy="304920"/>
            </a:xfrm>
          </p:grpSpPr>
          <p:sp>
            <p:nvSpPr>
              <p:cNvPr id="123" name=""/>
              <p:cNvSpPr/>
              <p:nvPr/>
            </p:nvSpPr>
            <p:spPr>
              <a:xfrm>
                <a:off x="2997360" y="8048520"/>
                <a:ext cx="342720" cy="30492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59200" y="806436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3428640" y="7834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429000" y="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592-B7D1-444D-9549-8E977E4780BD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981080"/>
            <a:ext cx="5790960" cy="640080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94280" y="-856440"/>
            <a:ext cx="454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Temporary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09680" y="2487600"/>
            <a:ext cx="2438640" cy="685800"/>
            <a:chOff x="2209680" y="2487600"/>
            <a:chExt cx="2438640" cy="685800"/>
          </a:xfrm>
        </p:grpSpPr>
        <p:sp>
          <p:nvSpPr>
            <p:cNvPr id="132" name=""/>
            <p:cNvSpPr/>
            <p:nvPr/>
          </p:nvSpPr>
          <p:spPr>
            <a:xfrm>
              <a:off x="2209680" y="2487600"/>
              <a:ext cx="24386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05080" y="2511360"/>
              <a:ext cx="2247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Have your skills &amp; experience assessed by   Branch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995560" y="6629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3571920"/>
            <a:ext cx="2133360" cy="1371600"/>
            <a:chOff x="2362320" y="3571920"/>
            <a:chExt cx="2133360" cy="1371600"/>
          </a:xfrm>
        </p:grpSpPr>
        <p:sp>
          <p:nvSpPr>
            <p:cNvPr id="136" name=""/>
            <p:cNvSpPr/>
            <p:nvPr/>
          </p:nvSpPr>
          <p:spPr>
            <a:xfrm>
              <a:off x="2362320" y="3571920"/>
              <a:ext cx="2133360" cy="137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5040" y="402912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tisfied requiremen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62320" y="5248440"/>
            <a:ext cx="2133360" cy="1371600"/>
            <a:chOff x="2362320" y="5248440"/>
            <a:chExt cx="2133360" cy="1371600"/>
          </a:xfrm>
        </p:grpSpPr>
        <p:sp>
          <p:nvSpPr>
            <p:cNvPr id="139" name=""/>
            <p:cNvSpPr/>
            <p:nvPr/>
          </p:nvSpPr>
          <p:spPr>
            <a:xfrm>
              <a:off x="2362320" y="5248440"/>
              <a:ext cx="2133360" cy="137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05040" y="570564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ed more documentatio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209680" y="7000920"/>
            <a:ext cx="2438640" cy="685800"/>
            <a:chOff x="2209680" y="7000920"/>
            <a:chExt cx="2438640" cy="685800"/>
          </a:xfrm>
        </p:grpSpPr>
        <p:sp>
          <p:nvSpPr>
            <p:cNvPr id="142" name=""/>
            <p:cNvSpPr/>
            <p:nvPr/>
          </p:nvSpPr>
          <p:spPr>
            <a:xfrm>
              <a:off x="2209680" y="7000920"/>
              <a:ext cx="24386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05080" y="7024680"/>
              <a:ext cx="2247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Obtain further documentation or consult with Branch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4" name=""/>
          <p:cNvCxnSpPr>
            <a:stCxn id="128" idx="0"/>
            <a:endCxn id="133" idx="0"/>
          </p:cNvCxnSpPr>
          <p:nvPr/>
        </p:nvCxnSpPr>
        <p:spPr>
          <a:xfrm>
            <a:off x="3428640" y="19807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2" idx="2"/>
            <a:endCxn id="136" idx="0"/>
          </p:cNvCxnSpPr>
          <p:nvPr/>
        </p:nvCxnSpPr>
        <p:spPr>
          <a:xfrm>
            <a:off x="3428640" y="3173040"/>
            <a:ext cx="10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6" idx="2"/>
            <a:endCxn id="139" idx="0"/>
          </p:cNvCxnSpPr>
          <p:nvPr/>
        </p:nvCxnSpPr>
        <p:spPr>
          <a:xfrm>
            <a:off x="3428640" y="4943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8120" y="49197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48080" y="2038320"/>
            <a:ext cx="457200" cy="304920"/>
            <a:chOff x="3448080" y="2038320"/>
            <a:chExt cx="457200" cy="304920"/>
          </a:xfrm>
        </p:grpSpPr>
        <p:sp>
          <p:nvSpPr>
            <p:cNvPr id="149" name=""/>
            <p:cNvSpPr/>
            <p:nvPr/>
          </p:nvSpPr>
          <p:spPr>
            <a:xfrm>
              <a:off x="3486240" y="203832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48080" y="2054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510000" y="8039160"/>
            <a:ext cx="457200" cy="304920"/>
            <a:chOff x="3510000" y="8039160"/>
            <a:chExt cx="457200" cy="304920"/>
          </a:xfrm>
        </p:grpSpPr>
        <p:sp>
          <p:nvSpPr>
            <p:cNvPr id="152" name=""/>
            <p:cNvSpPr/>
            <p:nvPr/>
          </p:nvSpPr>
          <p:spPr>
            <a:xfrm>
              <a:off x="3548160" y="80391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10000" y="8055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39" idx="2"/>
            <a:endCxn id="143" idx="0"/>
          </p:cNvCxnSpPr>
          <p:nvPr/>
        </p:nvCxnSpPr>
        <p:spPr>
          <a:xfrm>
            <a:off x="3428640" y="6620040"/>
            <a:ext cx="108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2" idx="2"/>
            <a:endCxn id="128" idx="2"/>
          </p:cNvCxnSpPr>
          <p:nvPr/>
        </p:nvCxnSpPr>
        <p:spPr>
          <a:xfrm>
            <a:off x="3428640" y="7686360"/>
            <a:ext cx="108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" name=""/>
          <p:cNvGrpSpPr/>
          <p:nvPr/>
        </p:nvGrpSpPr>
        <p:grpSpPr>
          <a:xfrm>
            <a:off x="4791240" y="5181480"/>
            <a:ext cx="1447560" cy="1524240"/>
            <a:chOff x="4791240" y="5181480"/>
            <a:chExt cx="1447560" cy="1524240"/>
          </a:xfrm>
        </p:grpSpPr>
        <p:sp>
          <p:nvSpPr>
            <p:cNvPr id="157" name=""/>
            <p:cNvSpPr/>
            <p:nvPr/>
          </p:nvSpPr>
          <p:spPr>
            <a:xfrm>
              <a:off x="4791240" y="5181480"/>
              <a:ext cx="1447560" cy="1524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67200" y="5303880"/>
              <a:ext cx="129492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y for Apprentice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Refer to 2.3 The Apprenticeship Pathwa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9" name=""/>
          <p:cNvCxnSpPr>
            <a:stCxn id="139" idx="3"/>
            <a:endCxn id="157" idx="1"/>
          </p:cNvCxnSpPr>
          <p:nvPr/>
        </p:nvCxnSpPr>
        <p:spPr>
          <a:xfrm>
            <a:off x="4495320" y="5934240"/>
            <a:ext cx="2962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600200" y="39909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0000" y="5629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36" idx="1"/>
            <a:endCxn id="128" idx="2"/>
          </p:cNvCxnSpPr>
          <p:nvPr/>
        </p:nvCxnSpPr>
        <p:spPr>
          <a:xfrm flipH="1" flipV="1" rot="10800000">
            <a:off x="2361240" y="4257360"/>
            <a:ext cx="1067400" cy="4124880"/>
          </a:xfrm>
          <a:prstGeom prst="bentConnector4">
            <a:avLst>
              <a:gd name="adj1" fmla="val -105802"/>
              <a:gd name="adj2" fmla="val 907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048120" y="8001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86868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2A6-5738-4DDF-8A64-A289177FFFD3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981080"/>
            <a:ext cx="5790960" cy="640080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2514600"/>
            <a:ext cx="2438640" cy="557280"/>
            <a:chOff x="2209680" y="2514600"/>
            <a:chExt cx="2438640" cy="557280"/>
          </a:xfrm>
        </p:grpSpPr>
        <p:sp>
          <p:nvSpPr>
            <p:cNvPr id="169" name=""/>
            <p:cNvSpPr/>
            <p:nvPr/>
          </p:nvSpPr>
          <p:spPr>
            <a:xfrm>
              <a:off x="2209680" y="2514600"/>
              <a:ext cx="2438640" cy="55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05080" y="256536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Apply for C of Q Examination (Fee: $1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581280" y="6934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62320" y="5641920"/>
            <a:ext cx="2133360" cy="1371600"/>
            <a:chOff x="2362320" y="5641920"/>
            <a:chExt cx="2133360" cy="1371600"/>
          </a:xfrm>
        </p:grpSpPr>
        <p:sp>
          <p:nvSpPr>
            <p:cNvPr id="173" name=""/>
            <p:cNvSpPr/>
            <p:nvPr/>
          </p:nvSpPr>
          <p:spPr>
            <a:xfrm>
              <a:off x="2362320" y="5641920"/>
              <a:ext cx="2133360" cy="137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5040" y="609912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ed translator for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828800" y="6019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448080" y="2038320"/>
            <a:ext cx="457200" cy="304920"/>
            <a:chOff x="3448080" y="2038320"/>
            <a:chExt cx="457200" cy="304920"/>
          </a:xfrm>
        </p:grpSpPr>
        <p:sp>
          <p:nvSpPr>
            <p:cNvPr id="177" name=""/>
            <p:cNvSpPr/>
            <p:nvPr/>
          </p:nvSpPr>
          <p:spPr>
            <a:xfrm>
              <a:off x="3486240" y="203832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48080" y="2054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510000" y="8039160"/>
            <a:ext cx="457200" cy="304920"/>
            <a:chOff x="3510000" y="8039160"/>
            <a:chExt cx="457200" cy="304920"/>
          </a:xfrm>
        </p:grpSpPr>
        <p:sp>
          <p:nvSpPr>
            <p:cNvPr id="180" name=""/>
            <p:cNvSpPr/>
            <p:nvPr/>
          </p:nvSpPr>
          <p:spPr>
            <a:xfrm>
              <a:off x="3548160" y="80391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10000" y="8055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09680" y="3295800"/>
            <a:ext cx="2438640" cy="556920"/>
            <a:chOff x="2209680" y="3295800"/>
            <a:chExt cx="2438640" cy="556920"/>
          </a:xfrm>
        </p:grpSpPr>
        <p:sp>
          <p:nvSpPr>
            <p:cNvPr id="183" name=""/>
            <p:cNvSpPr/>
            <p:nvPr/>
          </p:nvSpPr>
          <p:spPr>
            <a:xfrm>
              <a:off x="2209680" y="329580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5080" y="334620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 Receive authorization to work in your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09680" y="4859280"/>
            <a:ext cx="2438640" cy="556920"/>
            <a:chOff x="2209680" y="4859280"/>
            <a:chExt cx="2438640" cy="556920"/>
          </a:xfrm>
        </p:grpSpPr>
        <p:sp>
          <p:nvSpPr>
            <p:cNvPr id="186" name=""/>
            <p:cNvSpPr/>
            <p:nvPr/>
          </p:nvSpPr>
          <p:spPr>
            <a:xfrm>
              <a:off x="2209680" y="485928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05080" y="5000400"/>
              <a:ext cx="22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.  Prepare for Ex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09680" y="4078440"/>
            <a:ext cx="2438640" cy="556920"/>
            <a:chOff x="2209680" y="4078440"/>
            <a:chExt cx="2438640" cy="556920"/>
          </a:xfrm>
        </p:grpSpPr>
        <p:sp>
          <p:nvSpPr>
            <p:cNvPr id="189" name=""/>
            <p:cNvSpPr/>
            <p:nvPr/>
          </p:nvSpPr>
          <p:spPr>
            <a:xfrm>
              <a:off x="2209680" y="407844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05080" y="4219560"/>
              <a:ext cx="22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.  Search for employ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09680" y="7238880"/>
            <a:ext cx="2438640" cy="556920"/>
            <a:chOff x="2209680" y="7238880"/>
            <a:chExt cx="2438640" cy="556920"/>
          </a:xfrm>
        </p:grpSpPr>
        <p:sp>
          <p:nvSpPr>
            <p:cNvPr id="192" name=""/>
            <p:cNvSpPr/>
            <p:nvPr/>
          </p:nvSpPr>
          <p:spPr>
            <a:xfrm>
              <a:off x="2209680" y="723888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05080" y="7380000"/>
              <a:ext cx="22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.  Source Transl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4" name=""/>
          <p:cNvCxnSpPr>
            <a:stCxn id="166" idx="0"/>
            <a:endCxn id="170" idx="0"/>
          </p:cNvCxnSpPr>
          <p:nvPr/>
        </p:nvCxnSpPr>
        <p:spPr>
          <a:xfrm>
            <a:off x="3428640" y="1980720"/>
            <a:ext cx="108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69" idx="2"/>
            <a:endCxn id="183" idx="0"/>
          </p:cNvCxnSpPr>
          <p:nvPr/>
        </p:nvCxnSpPr>
        <p:spPr>
          <a:xfrm>
            <a:off x="3428640" y="3071880"/>
            <a:ext cx="10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4" idx="2"/>
            <a:endCxn id="189" idx="0"/>
          </p:cNvCxnSpPr>
          <p:nvPr/>
        </p:nvCxnSpPr>
        <p:spPr>
          <a:xfrm>
            <a:off x="3428640" y="3803400"/>
            <a:ext cx="108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9" idx="2"/>
            <a:endCxn id="186" idx="0"/>
          </p:cNvCxnSpPr>
          <p:nvPr/>
        </p:nvCxnSpPr>
        <p:spPr>
          <a:xfrm>
            <a:off x="3428640" y="4635360"/>
            <a:ext cx="10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6" idx="2"/>
            <a:endCxn id="173" idx="0"/>
          </p:cNvCxnSpPr>
          <p:nvPr/>
        </p:nvCxnSpPr>
        <p:spPr>
          <a:xfrm>
            <a:off x="3428640" y="541656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73" idx="2"/>
            <a:endCxn id="192" idx="0"/>
          </p:cNvCxnSpPr>
          <p:nvPr/>
        </p:nvCxnSpPr>
        <p:spPr>
          <a:xfrm>
            <a:off x="3428640" y="70135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2"/>
            <a:endCxn id="166" idx="2"/>
          </p:cNvCxnSpPr>
          <p:nvPr/>
        </p:nvCxnSpPr>
        <p:spPr>
          <a:xfrm>
            <a:off x="3428640" y="779580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73" idx="1"/>
            <a:endCxn id="166" idx="2"/>
          </p:cNvCxnSpPr>
          <p:nvPr/>
        </p:nvCxnSpPr>
        <p:spPr>
          <a:xfrm flipH="1" flipV="1" rot="10800000">
            <a:off x="2361240" y="6327360"/>
            <a:ext cx="1067400" cy="2054880"/>
          </a:xfrm>
          <a:prstGeom prst="bentConnector4">
            <a:avLst>
              <a:gd name="adj1" fmla="val -107118"/>
              <a:gd name="adj2" fmla="val 863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3124080" y="8105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3217320" y="-1166760"/>
            <a:ext cx="45468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Temporary Certification Preparation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B3D-1B26-49C3-B272-5997EE65A494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3194280" y="-1162800"/>
            <a:ext cx="454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Trade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72080" y="7238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76440" y="8039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98880" y="1701720"/>
            <a:ext cx="457200" cy="304920"/>
            <a:chOff x="3098880" y="1701720"/>
            <a:chExt cx="457200" cy="304920"/>
          </a:xfrm>
        </p:grpSpPr>
        <p:sp>
          <p:nvSpPr>
            <p:cNvPr id="211" name=""/>
            <p:cNvSpPr/>
            <p:nvPr/>
          </p:nvSpPr>
          <p:spPr>
            <a:xfrm>
              <a:off x="3137040" y="170172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98880" y="1717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048120" y="8077320"/>
            <a:ext cx="457200" cy="304560"/>
            <a:chOff x="3048120" y="8077320"/>
            <a:chExt cx="457200" cy="304560"/>
          </a:xfrm>
        </p:grpSpPr>
        <p:sp>
          <p:nvSpPr>
            <p:cNvPr id="214" name=""/>
            <p:cNvSpPr/>
            <p:nvPr/>
          </p:nvSpPr>
          <p:spPr>
            <a:xfrm>
              <a:off x="3086280" y="8077320"/>
              <a:ext cx="342720" cy="304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8120" y="80928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08200" y="4222800"/>
            <a:ext cx="2438280" cy="557280"/>
            <a:chOff x="1708200" y="4222800"/>
            <a:chExt cx="2438280" cy="557280"/>
          </a:xfrm>
        </p:grpSpPr>
        <p:sp>
          <p:nvSpPr>
            <p:cNvPr id="217" name=""/>
            <p:cNvSpPr/>
            <p:nvPr/>
          </p:nvSpPr>
          <p:spPr>
            <a:xfrm>
              <a:off x="1708200" y="4222800"/>
              <a:ext cx="2438280" cy="55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3240" y="4273560"/>
              <a:ext cx="224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.  Determine your improvement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708200" y="5842080"/>
            <a:ext cx="2438280" cy="838080"/>
            <a:chOff x="1708200" y="5842080"/>
            <a:chExt cx="2438280" cy="838080"/>
          </a:xfrm>
        </p:grpSpPr>
        <p:sp>
          <p:nvSpPr>
            <p:cNvPr id="220" name=""/>
            <p:cNvSpPr/>
            <p:nvPr/>
          </p:nvSpPr>
          <p:spPr>
            <a:xfrm>
              <a:off x="1708200" y="5842080"/>
              <a:ext cx="2438280" cy="8380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3240" y="5942160"/>
              <a:ext cx="2247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.  Write 2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C of Q Exam (after a minimum of 15 days from 1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xam, Fee: $1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708200" y="2057400"/>
            <a:ext cx="2438280" cy="556920"/>
            <a:chOff x="1708200" y="2057400"/>
            <a:chExt cx="2438280" cy="556920"/>
          </a:xfrm>
        </p:grpSpPr>
        <p:sp>
          <p:nvSpPr>
            <p:cNvPr id="223" name=""/>
            <p:cNvSpPr/>
            <p:nvPr/>
          </p:nvSpPr>
          <p:spPr>
            <a:xfrm>
              <a:off x="1708200" y="2057400"/>
              <a:ext cx="243828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03240" y="2198520"/>
              <a:ext cx="22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.  Write C of Q Ex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11320" y="2867040"/>
            <a:ext cx="1831680" cy="1103400"/>
            <a:chOff x="2011320" y="2867040"/>
            <a:chExt cx="1831680" cy="1103400"/>
          </a:xfrm>
        </p:grpSpPr>
        <p:sp>
          <p:nvSpPr>
            <p:cNvPr id="226" name=""/>
            <p:cNvSpPr/>
            <p:nvPr/>
          </p:nvSpPr>
          <p:spPr>
            <a:xfrm>
              <a:off x="2011320" y="286704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03200" y="31654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ed first attempt at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708200" y="5032440"/>
            <a:ext cx="2438280" cy="557280"/>
            <a:chOff x="1708200" y="5032440"/>
            <a:chExt cx="2438280" cy="557280"/>
          </a:xfrm>
        </p:grpSpPr>
        <p:sp>
          <p:nvSpPr>
            <p:cNvPr id="229" name=""/>
            <p:cNvSpPr/>
            <p:nvPr/>
          </p:nvSpPr>
          <p:spPr>
            <a:xfrm>
              <a:off x="1708200" y="5032440"/>
              <a:ext cx="2438280" cy="55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03240" y="5083200"/>
              <a:ext cx="224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.  Complete work on your improvement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241880" y="3165480"/>
            <a:ext cx="1980720" cy="533520"/>
            <a:chOff x="4241880" y="3165480"/>
            <a:chExt cx="1980720" cy="533520"/>
          </a:xfrm>
        </p:grpSpPr>
        <p:sp>
          <p:nvSpPr>
            <p:cNvPr id="232" name=""/>
            <p:cNvSpPr/>
            <p:nvPr/>
          </p:nvSpPr>
          <p:spPr>
            <a:xfrm>
              <a:off x="4241880" y="3165480"/>
              <a:ext cx="1980720" cy="5335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46280" y="320832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011320" y="6934320"/>
            <a:ext cx="1831680" cy="1103040"/>
            <a:chOff x="2011320" y="6934320"/>
            <a:chExt cx="1831680" cy="1103040"/>
          </a:xfrm>
        </p:grpSpPr>
        <p:sp>
          <p:nvSpPr>
            <p:cNvPr id="235" name=""/>
            <p:cNvSpPr/>
            <p:nvPr/>
          </p:nvSpPr>
          <p:spPr>
            <a:xfrm>
              <a:off x="2011320" y="6934320"/>
              <a:ext cx="1831680" cy="11030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03200" y="72324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ed second attempt at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9718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23" idx="2"/>
            <a:endCxn id="226" idx="0"/>
          </p:cNvCxnSpPr>
          <p:nvPr/>
        </p:nvCxnSpPr>
        <p:spPr>
          <a:xfrm flipV="1" rot="10800000">
            <a:off x="2926800" y="2614320"/>
            <a:ext cx="1080" cy="25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6" idx="2"/>
            <a:endCxn id="217" idx="0"/>
          </p:cNvCxnSpPr>
          <p:nvPr/>
        </p:nvCxnSpPr>
        <p:spPr>
          <a:xfrm>
            <a:off x="2927160" y="397008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2971800" y="3924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26" idx="3"/>
            <a:endCxn id="232" idx="1"/>
          </p:cNvCxnSpPr>
          <p:nvPr/>
        </p:nvCxnSpPr>
        <p:spPr>
          <a:xfrm>
            <a:off x="3843000" y="3419280"/>
            <a:ext cx="39924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3772080" y="3162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17" idx="2"/>
            <a:endCxn id="229" idx="0"/>
          </p:cNvCxnSpPr>
          <p:nvPr/>
        </p:nvCxnSpPr>
        <p:spPr>
          <a:xfrm>
            <a:off x="2927160" y="477972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9" idx="2"/>
            <a:endCxn id="220" idx="0"/>
          </p:cNvCxnSpPr>
          <p:nvPr/>
        </p:nvCxnSpPr>
        <p:spPr>
          <a:xfrm>
            <a:off x="2927160" y="558936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0" idx="2"/>
            <a:endCxn id="235" idx="0"/>
          </p:cNvCxnSpPr>
          <p:nvPr/>
        </p:nvCxnSpPr>
        <p:spPr>
          <a:xfrm>
            <a:off x="2927160" y="6680160"/>
            <a:ext cx="108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921040" y="80136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241880" y="7219800"/>
            <a:ext cx="1980720" cy="533520"/>
            <a:chOff x="4241880" y="7219800"/>
            <a:chExt cx="1980720" cy="533520"/>
          </a:xfrm>
        </p:grpSpPr>
        <p:sp>
          <p:nvSpPr>
            <p:cNvPr id="248" name=""/>
            <p:cNvSpPr/>
            <p:nvPr/>
          </p:nvSpPr>
          <p:spPr>
            <a:xfrm>
              <a:off x="4241880" y="7219800"/>
              <a:ext cx="1980720" cy="5335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6280" y="726264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" name=""/>
          <p:cNvCxnSpPr>
            <a:stCxn id="235" idx="3"/>
            <a:endCxn id="248" idx="1"/>
          </p:cNvCxnSpPr>
          <p:nvPr/>
        </p:nvCxnSpPr>
        <p:spPr>
          <a:xfrm>
            <a:off x="3843000" y="7486200"/>
            <a:ext cx="399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6310440" y="8840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A51-44E3-41C6-87AC-F533AB3C862A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3520" y="1828800"/>
            <a:ext cx="5790960" cy="655308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3672000" y="5551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813040" y="2314440"/>
            <a:ext cx="457200" cy="304920"/>
            <a:chOff x="2813040" y="2314440"/>
            <a:chExt cx="457200" cy="304920"/>
          </a:xfrm>
        </p:grpSpPr>
        <p:sp>
          <p:nvSpPr>
            <p:cNvPr id="257" name=""/>
            <p:cNvSpPr/>
            <p:nvPr/>
          </p:nvSpPr>
          <p:spPr>
            <a:xfrm>
              <a:off x="2851200" y="231444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13040" y="2330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542960" y="4105440"/>
            <a:ext cx="2438640" cy="556920"/>
            <a:chOff x="1542960" y="4105440"/>
            <a:chExt cx="2438640" cy="556920"/>
          </a:xfrm>
        </p:grpSpPr>
        <p:sp>
          <p:nvSpPr>
            <p:cNvPr id="260" name=""/>
            <p:cNvSpPr/>
            <p:nvPr/>
          </p:nvSpPr>
          <p:spPr>
            <a:xfrm>
              <a:off x="1542960" y="410544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8360" y="415584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. Write third C of Q Exam (Fee: $1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46440" y="5254560"/>
            <a:ext cx="1831680" cy="1103400"/>
            <a:chOff x="1846440" y="5254560"/>
            <a:chExt cx="1831680" cy="1103400"/>
          </a:xfrm>
        </p:grpSpPr>
        <p:sp>
          <p:nvSpPr>
            <p:cNvPr id="263" name=""/>
            <p:cNvSpPr/>
            <p:nvPr/>
          </p:nvSpPr>
          <p:spPr>
            <a:xfrm>
              <a:off x="1846440" y="525456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8320" y="55530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ed final attempt at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762280" y="22604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191120" y="5538960"/>
            <a:ext cx="1980720" cy="533160"/>
            <a:chOff x="4191120" y="5538960"/>
            <a:chExt cx="1980720" cy="533160"/>
          </a:xfrm>
        </p:grpSpPr>
        <p:sp>
          <p:nvSpPr>
            <p:cNvPr id="267" name=""/>
            <p:cNvSpPr/>
            <p:nvPr/>
          </p:nvSpPr>
          <p:spPr>
            <a:xfrm>
              <a:off x="4191120" y="5538960"/>
              <a:ext cx="1980720" cy="533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95520" y="558144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9" name=""/>
          <p:cNvCxnSpPr>
            <a:stCxn id="263" idx="3"/>
            <a:endCxn id="267" idx="1"/>
          </p:cNvCxnSpPr>
          <p:nvPr/>
        </p:nvCxnSpPr>
        <p:spPr>
          <a:xfrm flipV="1">
            <a:off x="3677760" y="5804640"/>
            <a:ext cx="51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0" name=""/>
          <p:cNvGrpSpPr/>
          <p:nvPr/>
        </p:nvGrpSpPr>
        <p:grpSpPr>
          <a:xfrm>
            <a:off x="1542960" y="2793960"/>
            <a:ext cx="2438640" cy="609480"/>
            <a:chOff x="1542960" y="2793960"/>
            <a:chExt cx="2438640" cy="609480"/>
          </a:xfrm>
        </p:grpSpPr>
        <p:sp>
          <p:nvSpPr>
            <p:cNvPr id="271" name=""/>
            <p:cNvSpPr/>
            <p:nvPr/>
          </p:nvSpPr>
          <p:spPr>
            <a:xfrm>
              <a:off x="1542960" y="2793960"/>
              <a:ext cx="243864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8360" y="288108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. Work on improvement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42960" y="6908760"/>
            <a:ext cx="2438280" cy="990720"/>
            <a:chOff x="1542960" y="6908760"/>
            <a:chExt cx="2438280" cy="990720"/>
          </a:xfrm>
        </p:grpSpPr>
        <p:sp>
          <p:nvSpPr>
            <p:cNvPr id="274" name=""/>
            <p:cNvSpPr/>
            <p:nvPr/>
          </p:nvSpPr>
          <p:spPr>
            <a:xfrm>
              <a:off x="1542960" y="6908760"/>
              <a:ext cx="2438280" cy="9907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1480" y="6989040"/>
              <a:ext cx="218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.  MTCU Reassessment Explore options/training programs with 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6" name=""/>
          <p:cNvCxnSpPr>
            <a:stCxn id="271" idx="2"/>
            <a:endCxn id="261" idx="0"/>
          </p:cNvCxnSpPr>
          <p:nvPr/>
        </p:nvCxnSpPr>
        <p:spPr>
          <a:xfrm>
            <a:off x="2761920" y="3403080"/>
            <a:ext cx="1080" cy="75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2357280" y="6527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63" idx="2"/>
            <a:endCxn id="274" idx="0"/>
          </p:cNvCxnSpPr>
          <p:nvPr/>
        </p:nvCxnSpPr>
        <p:spPr>
          <a:xfrm>
            <a:off x="2761920" y="6357960"/>
            <a:ext cx="10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 rot="16200000">
            <a:off x="3232440" y="-1163880"/>
            <a:ext cx="4546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Trade Certification Preparation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0440" y="8840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61" idx="2"/>
            <a:endCxn id="263" idx="0"/>
          </p:cNvCxnSpPr>
          <p:nvPr/>
        </p:nvCxnSpPr>
        <p:spPr>
          <a:xfrm flipV="1" rot="10800000">
            <a:off x="2761560" y="4613040"/>
            <a:ext cx="108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72F-D0F2-469F-8957-22CA620B60F1}" type="slidenum">
              <a:t>5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FTPT</cp:lastModifiedBy>
  <dcterms:modified xsi:type="dcterms:W3CDTF">2005-08-04T15:26:04Z</dcterms:modified>
  <cp:revision>138</cp:revision>
  <dc:subject/>
  <dc:title>Newcomers Connecting to Trades Apprenticeship Resources (NeCTAR)</dc:title>
</cp:coreProperties>
</file>