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0AD-D34D-49F4-81C5-90EF62F8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6D5-9A0D-4E5C-AFFA-91AFE231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3BC-D408-42B3-B3BF-BEFB837D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235-BC1C-40F1-9D62-A3A1F9DA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95EE-32C7-44D9-93C4-615CC680FC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CABBB-66DF-4752-9E42-16B513BA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DAFAE-B174-4435-B651-6B2C0B23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DF586-9466-4111-9BCF-69EB8C4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B8545-DA02-4FFD-ACB3-D92A5E5F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E943E-C9AF-440F-8538-433575A3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13282-5F07-44E5-936F-4F491B8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232-B55E-4D8E-AD61-98530822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89F91-26E6-4014-8B41-CF9F0804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98AC0-2338-4921-9BC5-A081302F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CAC0C-7B45-4013-BEC6-C585B02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BD2C7-B078-4087-B861-41AE2278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EC6AD-D2F2-42F2-80FA-DDAB39564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728-FF39-4141-9CA7-5601D494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B1A-D43E-4558-862A-2EE9D92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E6A-3DF6-4B52-A258-4277980E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609-57C9-4A00-B55C-85D3D86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F57-5C04-4D62-8F91-523A9F4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AF7-C00C-446D-BDF7-00771A87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013F-7143-4BF9-B553-C558D55C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D3FC-740D-4DCE-B701-21DA50042A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F3C-DE24-47F3-B544-612D49314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6520"/>
            <a:ext cx="5790960" cy="685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420720" y="-1563120"/>
            <a:ext cx="454680" cy="59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9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043600" y="8202600"/>
            <a:ext cx="457200" cy="304920"/>
            <a:chOff x="5043600" y="8202600"/>
            <a:chExt cx="457200" cy="304920"/>
          </a:xfrm>
        </p:grpSpPr>
        <p:sp>
          <p:nvSpPr>
            <p:cNvPr id="104" name=""/>
            <p:cNvSpPr/>
            <p:nvPr/>
          </p:nvSpPr>
          <p:spPr>
            <a:xfrm>
              <a:off x="5081760" y="820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3600" y="821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3733920"/>
            <a:ext cx="3124440" cy="533160"/>
            <a:chOff x="609480" y="3733920"/>
            <a:chExt cx="3124440" cy="533160"/>
          </a:xfrm>
        </p:grpSpPr>
        <p:sp>
          <p:nvSpPr>
            <p:cNvPr id="107" name=""/>
            <p:cNvSpPr/>
            <p:nvPr/>
          </p:nvSpPr>
          <p:spPr>
            <a:xfrm>
              <a:off x="609480" y="3733920"/>
              <a:ext cx="312444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640" y="3852720"/>
              <a:ext cx="310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66800" y="6705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9440" y="2352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9560" y="6081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7640" y="1752480"/>
            <a:ext cx="3047760" cy="1752840"/>
            <a:chOff x="647640" y="1752480"/>
            <a:chExt cx="3047760" cy="1752840"/>
          </a:xfrm>
        </p:grpSpPr>
        <p:sp>
          <p:nvSpPr>
            <p:cNvPr id="113" name=""/>
            <p:cNvSpPr/>
            <p:nvPr/>
          </p:nvSpPr>
          <p:spPr>
            <a:xfrm>
              <a:off x="647640" y="1752480"/>
              <a:ext cx="3047760" cy="17528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69640" y="2127240"/>
              <a:ext cx="2100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attempted certification but did not meet assessment requirements or did not pass the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nd Final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38480" y="2438280"/>
            <a:ext cx="1981080" cy="381240"/>
            <a:chOff x="4038480" y="2438280"/>
            <a:chExt cx="1981080" cy="381240"/>
          </a:xfrm>
        </p:grpSpPr>
        <p:sp>
          <p:nvSpPr>
            <p:cNvPr id="116" name=""/>
            <p:cNvSpPr/>
            <p:nvPr/>
          </p:nvSpPr>
          <p:spPr>
            <a:xfrm>
              <a:off x="4038480" y="2438280"/>
              <a:ext cx="198108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2880" y="2468160"/>
              <a:ext cx="177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3000" y="4559400"/>
            <a:ext cx="2057400" cy="1143000"/>
            <a:chOff x="1143000" y="4559400"/>
            <a:chExt cx="2057400" cy="1143000"/>
          </a:xfrm>
        </p:grpSpPr>
        <p:sp>
          <p:nvSpPr>
            <p:cNvPr id="119" name=""/>
            <p:cNvSpPr/>
            <p:nvPr/>
          </p:nvSpPr>
          <p:spPr>
            <a:xfrm>
              <a:off x="1143000" y="4559400"/>
              <a:ext cx="2057400" cy="1143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732560"/>
              <a:ext cx="1500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completed Gr. 12 (Gr. 10-TQAA Trades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95320" y="7040520"/>
            <a:ext cx="2552760" cy="1338480"/>
            <a:chOff x="895320" y="7040520"/>
            <a:chExt cx="2552760" cy="1338480"/>
          </a:xfrm>
        </p:grpSpPr>
        <p:sp>
          <p:nvSpPr>
            <p:cNvPr id="122" name=""/>
            <p:cNvSpPr/>
            <p:nvPr/>
          </p:nvSpPr>
          <p:spPr>
            <a:xfrm>
              <a:off x="895320" y="7040520"/>
              <a:ext cx="2552760" cy="1338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95320" y="7197840"/>
              <a:ext cx="2552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job search and job development support for client to secure apprenticeship sponsor and refer to pre-apprenticeship training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38480" y="4768920"/>
            <a:ext cx="1981440" cy="723960"/>
            <a:chOff x="4038480" y="4768920"/>
            <a:chExt cx="1981440" cy="723960"/>
          </a:xfrm>
        </p:grpSpPr>
        <p:sp>
          <p:nvSpPr>
            <p:cNvPr id="125" name=""/>
            <p:cNvSpPr/>
            <p:nvPr/>
          </p:nvSpPr>
          <p:spPr>
            <a:xfrm>
              <a:off x="4038480" y="4768920"/>
              <a:ext cx="1981440" cy="7239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3240" y="490212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cademic Upgra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5948280"/>
            <a:ext cx="1981440" cy="771480"/>
            <a:chOff x="4038480" y="5948280"/>
            <a:chExt cx="1981440" cy="771480"/>
          </a:xfrm>
        </p:grpSpPr>
        <p:sp>
          <p:nvSpPr>
            <p:cNvPr id="128" name=""/>
            <p:cNvSpPr/>
            <p:nvPr/>
          </p:nvSpPr>
          <p:spPr>
            <a:xfrm>
              <a:off x="4038480" y="5948280"/>
              <a:ext cx="1981440" cy="7714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3240" y="608004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client to take GED Test.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01880" y="7253280"/>
            <a:ext cx="2552760" cy="914400"/>
            <a:chOff x="3701880" y="7253280"/>
            <a:chExt cx="2552760" cy="914400"/>
          </a:xfrm>
        </p:grpSpPr>
        <p:sp>
          <p:nvSpPr>
            <p:cNvPr id="131" name=""/>
            <p:cNvSpPr/>
            <p:nvPr/>
          </p:nvSpPr>
          <p:spPr>
            <a:xfrm>
              <a:off x="3701880" y="7253280"/>
              <a:ext cx="255276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1880" y="728280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gister for apprenticeship at MTCU Local Branch Office.  Fill-in application for apprenticeship (Fee: $40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352680" y="4876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0" y="5667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8172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5877000"/>
            <a:ext cx="2057400" cy="914400"/>
            <a:chOff x="1143000" y="5877000"/>
            <a:chExt cx="2057400" cy="914400"/>
          </a:xfrm>
        </p:grpSpPr>
        <p:sp>
          <p:nvSpPr>
            <p:cNvPr id="137" name=""/>
            <p:cNvSpPr/>
            <p:nvPr/>
          </p:nvSpPr>
          <p:spPr>
            <a:xfrm>
              <a:off x="1143000" y="5877000"/>
              <a:ext cx="20574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992920"/>
              <a:ext cx="150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client provide academic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" name=""/>
          <p:cNvCxnSpPr>
            <a:stCxn id="113" idx="2"/>
            <a:endCxn id="107" idx="0"/>
          </p:cNvCxnSpPr>
          <p:nvPr/>
        </p:nvCxnSpPr>
        <p:spPr>
          <a:xfrm>
            <a:off x="2171520" y="3505320"/>
            <a:ext cx="72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07" idx="2"/>
            <a:endCxn id="119" idx="0"/>
          </p:cNvCxnSpPr>
          <p:nvPr/>
        </p:nvCxnSpPr>
        <p:spPr>
          <a:xfrm flipH="1">
            <a:off x="2171520" y="4267080"/>
            <a:ext cx="7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9" idx="2"/>
            <a:endCxn id="137" idx="0"/>
          </p:cNvCxnSpPr>
          <p:nvPr/>
        </p:nvCxnSpPr>
        <p:spPr>
          <a:xfrm>
            <a:off x="2171520" y="5702400"/>
            <a:ext cx="360" cy="17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2"/>
            <a:endCxn id="122" idx="0"/>
          </p:cNvCxnSpPr>
          <p:nvPr/>
        </p:nvCxnSpPr>
        <p:spPr>
          <a:xfrm>
            <a:off x="2171520" y="6791400"/>
            <a:ext cx="360" cy="24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3" idx="3"/>
            <a:endCxn id="116" idx="1"/>
          </p:cNvCxnSpPr>
          <p:nvPr/>
        </p:nvCxnSpPr>
        <p:spPr>
          <a:xfrm>
            <a:off x="3695400" y="2629080"/>
            <a:ext cx="343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19" idx="3"/>
            <a:endCxn id="125" idx="1"/>
          </p:cNvCxnSpPr>
          <p:nvPr/>
        </p:nvCxnSpPr>
        <p:spPr>
          <a:xfrm>
            <a:off x="3200400" y="513108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28" idx="1"/>
          </p:cNvCxnSpPr>
          <p:nvPr/>
        </p:nvCxnSpPr>
        <p:spPr>
          <a:xfrm>
            <a:off x="3200400" y="633420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3" idx="3"/>
            <a:endCxn id="132" idx="1"/>
          </p:cNvCxnSpPr>
          <p:nvPr/>
        </p:nvCxnSpPr>
        <p:spPr>
          <a:xfrm flipV="1">
            <a:off x="3448080" y="7694640"/>
            <a:ext cx="25416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68C-14BB-48B7-AE32-8867B8FF3E7D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306240" y="-15382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05320" y="7756560"/>
            <a:ext cx="457200" cy="304920"/>
            <a:chOff x="3505320" y="77565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3480" y="77565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7772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28960" y="2727360"/>
            <a:ext cx="2714400" cy="1023840"/>
            <a:chOff x="2028960" y="2727360"/>
            <a:chExt cx="2714400" cy="1023840"/>
          </a:xfrm>
        </p:grpSpPr>
        <p:sp>
          <p:nvSpPr>
            <p:cNvPr id="155" name=""/>
            <p:cNvSpPr/>
            <p:nvPr/>
          </p:nvSpPr>
          <p:spPr>
            <a:xfrm>
              <a:off x="2085840" y="2727360"/>
              <a:ext cx="2552760" cy="10238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8960" y="2906640"/>
              <a:ext cx="27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ovide trade-specific information about apprenticeship 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85840" y="4708440"/>
            <a:ext cx="2552760" cy="1059120"/>
            <a:chOff x="2085840" y="4708440"/>
            <a:chExt cx="2552760" cy="1059120"/>
          </a:xfrm>
        </p:grpSpPr>
        <p:sp>
          <p:nvSpPr>
            <p:cNvPr id="158" name=""/>
            <p:cNvSpPr/>
            <p:nvPr/>
          </p:nvSpPr>
          <p:spPr>
            <a:xfrm>
              <a:off x="2085840" y="4708440"/>
              <a:ext cx="2552760" cy="1059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5840" y="483228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Prepare for consultation with Training Consultant and Sponsor/Employer.  Refer to Training Standards Manual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85840" y="6689880"/>
            <a:ext cx="2552760" cy="609480"/>
            <a:chOff x="2085840" y="6689880"/>
            <a:chExt cx="2552760" cy="609480"/>
          </a:xfrm>
        </p:grpSpPr>
        <p:sp>
          <p:nvSpPr>
            <p:cNvPr id="161" name=""/>
            <p:cNvSpPr/>
            <p:nvPr/>
          </p:nvSpPr>
          <p:spPr>
            <a:xfrm>
              <a:off x="2085840" y="6689880"/>
              <a:ext cx="2552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5840" y="6765840"/>
              <a:ext cx="255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Inform about “Fast-tracking” possibilities where applicab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0560" y="2031840"/>
            <a:ext cx="457200" cy="304920"/>
            <a:chOff x="3400560" y="2031840"/>
            <a:chExt cx="457200" cy="304920"/>
          </a:xfrm>
        </p:grpSpPr>
        <p:sp>
          <p:nvSpPr>
            <p:cNvPr id="164" name=""/>
            <p:cNvSpPr/>
            <p:nvPr/>
          </p:nvSpPr>
          <p:spPr>
            <a:xfrm>
              <a:off x="3438720" y="20318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0560" y="20476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" name=""/>
          <p:cNvCxnSpPr>
            <a:stCxn id="155" idx="2"/>
            <a:endCxn id="158" idx="0"/>
          </p:cNvCxnSpPr>
          <p:nvPr/>
        </p:nvCxnSpPr>
        <p:spPr>
          <a:xfrm>
            <a:off x="3362040" y="3750840"/>
            <a:ext cx="10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8" idx="2"/>
            <a:endCxn id="161" idx="0"/>
          </p:cNvCxnSpPr>
          <p:nvPr/>
        </p:nvCxnSpPr>
        <p:spPr>
          <a:xfrm>
            <a:off x="3362040" y="5767560"/>
            <a:ext cx="108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367080" y="1965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729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668-4BE9-4084-B231-66526FF95313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363480" y="-150912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Apprenticeship Comple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33640" y="2816280"/>
            <a:ext cx="2552760" cy="1069920"/>
            <a:chOff x="2033640" y="2816280"/>
            <a:chExt cx="2552760" cy="1069920"/>
          </a:xfrm>
        </p:grpSpPr>
        <p:sp>
          <p:nvSpPr>
            <p:cNvPr id="175" name=""/>
            <p:cNvSpPr/>
            <p:nvPr/>
          </p:nvSpPr>
          <p:spPr>
            <a:xfrm>
              <a:off x="2033640" y="2816280"/>
              <a:ext cx="2552760" cy="1069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294624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Coach client on apprenticeship maintenance and advocate with Employer if necessary.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33640" y="4797360"/>
            <a:ext cx="2552760" cy="917640"/>
            <a:chOff x="2033640" y="4797360"/>
            <a:chExt cx="2552760" cy="917640"/>
          </a:xfrm>
        </p:grpSpPr>
        <p:sp>
          <p:nvSpPr>
            <p:cNvPr id="178" name=""/>
            <p:cNvSpPr/>
            <p:nvPr/>
          </p:nvSpPr>
          <p:spPr>
            <a:xfrm>
              <a:off x="2033640" y="4797360"/>
              <a:ext cx="2552760" cy="917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33640" y="4937040"/>
              <a:ext cx="255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Provide C of Q Exam preparation support resource and referral information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00560" y="2120760"/>
            <a:ext cx="457200" cy="304920"/>
            <a:chOff x="3400560" y="2120760"/>
            <a:chExt cx="457200" cy="304920"/>
          </a:xfrm>
        </p:grpSpPr>
        <p:sp>
          <p:nvSpPr>
            <p:cNvPr id="181" name=""/>
            <p:cNvSpPr/>
            <p:nvPr/>
          </p:nvSpPr>
          <p:spPr>
            <a:xfrm>
              <a:off x="3438720" y="21207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00560" y="213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75" idx="2"/>
            <a:endCxn id="178" idx="0"/>
          </p:cNvCxnSpPr>
          <p:nvPr/>
        </p:nvCxnSpPr>
        <p:spPr>
          <a:xfrm>
            <a:off x="3309480" y="3885840"/>
            <a:ext cx="1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281400" y="2054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560" y="6854760"/>
            <a:ext cx="2590560" cy="838440"/>
            <a:chOff x="2014560" y="6854760"/>
            <a:chExt cx="2590560" cy="838440"/>
          </a:xfrm>
        </p:grpSpPr>
        <p:sp>
          <p:nvSpPr>
            <p:cNvPr id="186" name=""/>
            <p:cNvSpPr/>
            <p:nvPr/>
          </p:nvSpPr>
          <p:spPr>
            <a:xfrm>
              <a:off x="2014560" y="6854760"/>
              <a:ext cx="2590560" cy="8384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1000" y="6922800"/>
              <a:ext cx="231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Go to Certification Pathway, Step III. Prepare client for Trade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8" name=""/>
          <p:cNvCxnSpPr>
            <a:stCxn id="178" idx="2"/>
            <a:endCxn id="186" idx="0"/>
          </p:cNvCxnSpPr>
          <p:nvPr/>
        </p:nvCxnSpPr>
        <p:spPr>
          <a:xfrm>
            <a:off x="3309480" y="5715000"/>
            <a:ext cx="108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DEE-F4A3-49DF-9A0A-40FDA851762B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5160" y="1981080"/>
            <a:ext cx="5572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04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6760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04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5160" y="231300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4200" y="2313000"/>
            <a:ext cx="4883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760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08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760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04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808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200" y="256860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11240" y="2568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760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08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6760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04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808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60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04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808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60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04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08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11240" y="582768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6760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904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808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6760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904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08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6760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904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808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6760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904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808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84200" y="687564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687564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760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808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6760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904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808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4200" y="71308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1240" y="71308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760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904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808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760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04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808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6760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904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808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760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904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808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6760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904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808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6760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1280" y="2062080"/>
            <a:ext cx="5476320" cy="6466320"/>
            <a:chOff x="791280" y="2062080"/>
            <a:chExt cx="5476320" cy="6466320"/>
          </a:xfrm>
        </p:grpSpPr>
        <p:sp>
          <p:nvSpPr>
            <p:cNvPr id="278" name=""/>
            <p:cNvSpPr/>
            <p:nvPr/>
          </p:nvSpPr>
          <p:spPr>
            <a:xfrm>
              <a:off x="791280" y="2062080"/>
              <a:ext cx="39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Apprenticeship Appl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2248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1400" y="2354400"/>
              <a:ext cx="319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740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6368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7560" y="290844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2160" y="2908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53240" y="315756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9400" y="315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57920" y="34084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87160" y="34084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ship Trades &amp;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4160" y="3581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256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0440" y="38322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8920" y="383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3240" y="4081320"/>
              <a:ext cx="251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57760" y="4081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2040" y="40813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16240" y="408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1080" y="4330800"/>
              <a:ext cx="32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95760" y="433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53240" y="4579920"/>
              <a:ext cx="25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600" y="4579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8120" y="457992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76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56120" y="4830840"/>
              <a:ext cx="18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00760" y="4830840"/>
              <a:ext cx="125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6720" y="4830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5680" y="483084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25880" y="4830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4680" y="50799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6000" y="507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4400" y="5329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33560" y="5329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1360" y="532908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5320" y="532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58640" y="5578560"/>
              <a:ext cx="312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ncial Supports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74800" y="557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06280" y="58705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76200" y="5873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24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08080" y="616752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2480" y="616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49880" y="6167520"/>
              <a:ext cx="26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ic Apprenticeship Information 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08840" y="6167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320" y="6167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7600" y="64008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42720" y="641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06640" y="66675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06600" y="6667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48720" y="6667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7200" y="666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8160" y="6918480"/>
              <a:ext cx="348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Apprenticeship Search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38480" y="6918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72136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63680" y="7213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4400" y="7547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33560" y="7547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77120" y="754704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40160" y="7547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47200" y="779616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1760" y="7796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280" y="80866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78000" y="808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11240" y="804384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8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82480" y="714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9520" y="8345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8904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808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6760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904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160" y="855648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808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808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84200" y="85564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1240" y="85564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6760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0200" y="8562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533-09D4-4872-A274-C5F3F1AD7543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6720" y="1981080"/>
            <a:ext cx="5572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" y="19875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02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6720" y="2313000"/>
            <a:ext cx="679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460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2313000"/>
            <a:ext cx="4886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3880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0240" y="231768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02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60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52520" y="274176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730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9560" y="274176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38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024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308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024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308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24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308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02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60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7308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79560" y="40784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3880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024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7308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024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7308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024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308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02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460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52520" y="4591080"/>
            <a:ext cx="520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7308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9560" y="459108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3880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0240" y="459576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02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460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52520" y="501984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308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50198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3880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024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308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02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460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7308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880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24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308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2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7308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9560" y="593244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3880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024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7308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24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7308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024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6720" y="6445080"/>
            <a:ext cx="679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460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2520" y="6445080"/>
            <a:ext cx="520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308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308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9560" y="6445080"/>
            <a:ext cx="4359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1400" y="1987560"/>
            <a:ext cx="5485320" cy="4645440"/>
            <a:chOff x="761400" y="1987560"/>
            <a:chExt cx="5485320" cy="4645440"/>
          </a:xfrm>
        </p:grpSpPr>
        <p:sp>
          <p:nvSpPr>
            <p:cNvPr id="445" name=""/>
            <p:cNvSpPr/>
            <p:nvPr/>
          </p:nvSpPr>
          <p:spPr>
            <a:xfrm>
              <a:off x="767160" y="20620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240" y="2062080"/>
              <a:ext cx="286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:  Apprenticeship Training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512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19875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560" y="23544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4240" y="23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00320" y="2354400"/>
              <a:ext cx="314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 Information About Apprenticeshi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63880" y="2529000"/>
              <a:ext cx="71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38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4604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8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257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3236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4604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8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8400" y="308304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2688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25160" y="33321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432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33800" y="3581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01880" y="358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0400" y="3581280"/>
              <a:ext cx="27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30680" y="3581280"/>
              <a:ext cx="37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328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33800" y="38307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01880" y="3830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5440" y="383076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08120" y="3830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4604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38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604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880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240" y="4122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44520" y="412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4604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3880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04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76040" y="43815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152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89040" y="43815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3184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73960" y="4381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000" y="438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4604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604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3880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53680" y="4632480"/>
              <a:ext cx="45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Prepare for Consultation with Training Consultant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63880" y="480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sor/Empl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0884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4604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3880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25720" y="51022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32360" y="510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4604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880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4880" y="54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8040" y="5435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01880" y="5435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39320" y="543564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03280" y="54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0200" y="5684760"/>
              <a:ext cx="21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with Exemption 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60320" y="56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4604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3880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74240" y="59752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47040" y="597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4604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3880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50440" y="50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77480" y="623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4604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3880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4604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3880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1400" y="645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B34-5F66-4D16-977C-C152A307F1C1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484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80960" y="274176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188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274176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1880" y="2747880"/>
            <a:ext cx="612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997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484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188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6436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1880" y="3002040"/>
            <a:ext cx="6120" cy="32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1880" y="3328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01880" y="33354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1880" y="3584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01880" y="35910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1880" y="38401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1880" y="40957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1880" y="410040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1880" y="4425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1880" y="443232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1880" y="50068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01880" y="50115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1880" y="5262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01880" y="5268960"/>
            <a:ext cx="612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1880" y="57294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85800" y="1981080"/>
            <a:ext cx="5584680" cy="3937320"/>
            <a:chOff x="685800" y="1981080"/>
            <a:chExt cx="5584680" cy="3937320"/>
          </a:xfrm>
        </p:grpSpPr>
        <p:sp>
          <p:nvSpPr>
            <p:cNvPr id="552" name=""/>
            <p:cNvSpPr/>
            <p:nvPr/>
          </p:nvSpPr>
          <p:spPr>
            <a:xfrm>
              <a:off x="789840" y="2060640"/>
              <a:ext cx="406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Apprenticeship Comple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16800" y="206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2280" y="198108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1987560"/>
              <a:ext cx="648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64360" y="1987560"/>
              <a:ext cx="61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77440" y="2354400"/>
              <a:ext cx="423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:  Coach Client on Apprenticeship Maintenan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91960" y="2529000"/>
              <a:ext cx="103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ocate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07880" y="2529000"/>
              <a:ext cx="168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 if Nece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772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5800" y="23115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2280" y="231156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484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80960" y="2311560"/>
              <a:ext cx="4883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7484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49640" y="3081240"/>
              <a:ext cx="308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uidelines for Apprenticeship 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272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5800" y="3002040"/>
              <a:ext cx="64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484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6436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3040" y="33735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2960" y="337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800" y="3328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484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8000" y="33289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6436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5800" y="33354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7484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6436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04840" y="363060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69240" y="363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3040" y="3630600"/>
              <a:ext cx="34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Maintenance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74920" y="363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35845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7484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5910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484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75280" y="3881520"/>
              <a:ext cx="476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8:  Provide C of Q Exam Preparation Support and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4240" y="3881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3840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484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0960" y="3840120"/>
              <a:ext cx="52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8000" y="38401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3846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484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2000" y="41767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49800" y="4176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61160" y="417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40957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7484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80960" y="4095720"/>
              <a:ext cx="5209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8000" y="409572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" y="410040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7484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6436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42520" y="4510080"/>
              <a:ext cx="352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51080" y="451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6840" y="475920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8520" y="475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800" y="4425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7484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6436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443232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484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6436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03040" y="5049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5480" y="5049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0068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484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08000" y="500688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6436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" y="50115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484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436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79240" y="4103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04840" y="53103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9240" y="531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50600" y="5310360"/>
              <a:ext cx="141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52440" y="531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02320" y="55213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6680" y="552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66240" y="5521320"/>
              <a:ext cx="204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95200" y="552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800" y="526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484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6436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" y="5268960"/>
              <a:ext cx="6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2280" y="572940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7484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484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80960" y="5729400"/>
              <a:ext cx="520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8000" y="572940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6960" y="5735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3F6-2C46-474F-8064-35BCDECF94F9}" type="slidenum">
              <a:t>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08:07Z</dcterms:modified>
  <cp:revision>185</cp:revision>
  <dc:subject/>
  <dc:title>Newcomers Connecting to Trades Apprenticeship Resources (NeCTAR)</dc:title>
</cp:coreProperties>
</file>