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17069-8DA1-46A3-9616-4E31A61F5F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7864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CA27B-3228-4CC9-A9A9-F261CB57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536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95CB9-3852-476A-BCC0-6996AC1E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4080" y="13712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70600" y="13712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786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4080" y="38786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70600" y="38786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635B2-89AC-4019-88E3-3525372CB7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53D93-094D-4F3E-AD42-807113417E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9FA5F-284C-45FA-96F6-D7CC5B38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B3985-20F4-41DE-B1BC-A384A062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6D12A-416F-4E3F-8EF5-2C4569B9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4F802-2B8C-4E58-B1B4-8B2DD96E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50920" y="190080"/>
            <a:ext cx="7794720" cy="36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983BC-AC44-4BC9-8DCC-7DECA955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73EAC-2A17-4BCD-94B9-A01F854E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F597E-6EFE-4A6E-816B-B881874A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3536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EEE39-4A91-44E4-90CF-3F1C4CCC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176ED-F18B-49F7-9FD0-C334052F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87864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9E5B4-1A32-4C64-BF5B-AF6C1190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3536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C0FC8-63CD-4458-8BE3-33B33DCA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14080" y="13712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70600" y="13712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8786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14080" y="38786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70600" y="38786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A2156-0685-45F8-A310-0192B986BC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B2AAC-7D12-4BFE-9D6C-3A159035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CD820-BF5B-40B7-95C8-5925447C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4988B-5C93-4546-9CC6-C1FB02F4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920" y="190080"/>
            <a:ext cx="7794720" cy="36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02053-FDA9-4457-8DCF-6BBE420C0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A6F58-28A5-4E90-8DF4-4ED9BE66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3536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FA47A-CEB6-4363-BF0C-1E157C07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8C4FF-578C-4037-90FA-7F750386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31284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31284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73512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2960" y="73512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6620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2048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9954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2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7467120" y="6324480"/>
            <a:ext cx="149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258480" y="6188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4"/>
          </p:nvPr>
        </p:nvSpPr>
        <p:spPr>
          <a:xfrm>
            <a:off x="7467480" y="6172200"/>
            <a:ext cx="151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50AA-6785-45C8-8ECA-C7E8C303F7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2480" y="6143760"/>
            <a:ext cx="509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Newcomers Connecting to Trades Apprenticeship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(NeCT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0" y="1200240"/>
            <a:ext cx="5867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 refuses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because s/he has reason to believe work endangers health or saf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1962000"/>
            <a:ext cx="5791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 reports problem to supervisor/mana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2495520"/>
            <a:ext cx="5791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 representative called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2952720"/>
            <a:ext cx="57913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pervisor investigates in presence of worker and worker represent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3409920"/>
            <a:ext cx="23619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oes the supervisor agree that the situation endangers health and /or safe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3409920"/>
            <a:ext cx="56520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562200"/>
            <a:ext cx="56340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3486240"/>
            <a:ext cx="40140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3638520"/>
            <a:ext cx="52416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4172040"/>
            <a:ext cx="2252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pervisor takes corrective 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4933800"/>
            <a:ext cx="2252520" cy="20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 returns to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943440"/>
            <a:ext cx="2438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oes worker have reasonable grounds to believe work  still endangers health and/or safe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5010120"/>
            <a:ext cx="289584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pector called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4629240"/>
            <a:ext cx="56340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4705200"/>
            <a:ext cx="56520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781520"/>
            <a:ext cx="40140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2320" y="4705200"/>
            <a:ext cx="479160" cy="17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5391000"/>
            <a:ext cx="32781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spector investigates in presence of worker, employer and worker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presentativ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5238720"/>
            <a:ext cx="1447920" cy="85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 may be assigned reasonable alternate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5924520"/>
            <a:ext cx="289584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ritten Dec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6305400"/>
            <a:ext cx="28958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rrective action if ord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76920" y="2266920"/>
            <a:ext cx="322200" cy="17136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6920" y="1733400"/>
            <a:ext cx="322200" cy="17172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2800440"/>
            <a:ext cx="322200" cy="17136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3257640"/>
            <a:ext cx="322200" cy="17136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6295320" y="3439080"/>
            <a:ext cx="228600" cy="3222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5346600">
            <a:off x="3239640" y="3522240"/>
            <a:ext cx="227160" cy="30636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714840"/>
            <a:ext cx="342720" cy="1332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943440"/>
            <a:ext cx="322200" cy="17136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162920" y="4705200"/>
            <a:ext cx="322200" cy="17172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5645880" y="4850280"/>
            <a:ext cx="228600" cy="2430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3892320" y="4622400"/>
            <a:ext cx="228600" cy="2412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5238720"/>
            <a:ext cx="322200" cy="954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5848200"/>
            <a:ext cx="322560" cy="954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6153120"/>
            <a:ext cx="327240" cy="954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4857840"/>
            <a:ext cx="322200" cy="17136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4629240"/>
            <a:ext cx="322560" cy="17136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5238720"/>
            <a:ext cx="828720" cy="171360"/>
          </a:xfrm>
          <a:prstGeom prst="leftRightArrow">
            <a:avLst>
              <a:gd name="adj1" fmla="val 50000"/>
              <a:gd name="adj2" fmla="val 962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3562200"/>
            <a:ext cx="804600" cy="27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57480" y="1758960"/>
            <a:ext cx="8046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2800440"/>
            <a:ext cx="874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STE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5010120"/>
            <a:ext cx="762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STEP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ight to Refuse Unsafe Work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6591240"/>
            <a:ext cx="4286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Newcomers Connecting to Trades Apprenticeship Resources (NeCTAR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505AF-9DBF-4F0A-A0CE-7468AE6B63EA}" type="slidenum">
              <a:t>1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8:52:31Z</dcterms:created>
  <dc:creator>Jane</dc:creator>
  <dc:description/>
  <dc:language>en-US</dc:language>
  <cp:lastModifiedBy>CFTPT</cp:lastModifiedBy>
  <dcterms:modified xsi:type="dcterms:W3CDTF">2005-08-03T15:33:23Z</dcterms:modified>
  <cp:revision>164</cp:revision>
  <dc:subject/>
  <dc:title>Newcomers Connecting to Trades Apprenticeship Resources (NeCTAR)</dc:title>
</cp:coreProperties>
</file>