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0555-FB44-4A00-8903-26457FDA67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B57E5-655A-49C6-AFD1-972D7916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239BD-277D-4613-85E8-1C45122F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5CC8B-DFCE-4E94-BDC4-2AF29F20D0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BD6FE-EFBD-444B-B139-F916F46359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C3D69-B7F5-4926-9007-925F1A81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9B3F2-39B6-4A07-A44D-E6048009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1CD93-B33B-402B-BE7C-971F3684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AFBE6-2031-4BAC-A484-5BD634DA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306F8-92E1-4B5A-80D2-3838719D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BB55C-2AE6-4466-8DCE-9903418E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A414-B4CA-4247-B196-84EA6BD8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7E69C-351B-480D-A05E-C61F89FE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38D63-D6E8-42E9-B776-B8CE85A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C933E-A224-450C-9FA3-017C3A9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AAD76-000F-4F84-8FFD-2D209159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1408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70600" y="13712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1408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70600" y="3878640"/>
            <a:ext cx="2625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0EBC5-B616-4F1F-9FEC-2859E0BF32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A569-B449-4F8C-8855-DB1D6979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0C9AD-4FF4-48A2-BC9D-7712D1D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BC0E-D14C-4C01-92F9-E1AD25336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920" y="190080"/>
            <a:ext cx="7794720" cy="363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97BA-8C56-4409-AD69-6CB12594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10C76-EFED-4545-84A7-FB9134B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35360" y="38786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637E-9117-4181-AA85-BFE603A7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5360" y="1371240"/>
            <a:ext cx="39787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78640"/>
            <a:ext cx="8153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A502F-BE6A-49E4-9EAD-5E7B430B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31284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31284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73512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2960" y="73512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620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2048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954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2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7467120" y="6324480"/>
            <a:ext cx="149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258480" y="6188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sldNum" idx="4"/>
          </p:nvPr>
        </p:nvSpPr>
        <p:spPr>
          <a:xfrm>
            <a:off x="7467480" y="6172200"/>
            <a:ext cx="151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3817-2AC9-4A52-9D80-4E0AC9E955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2480" y="6143760"/>
            <a:ext cx="509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0" y="1200240"/>
            <a:ext cx="5867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fuse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because s/he has reason to believe work endangers health or saf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196200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orts problem to supervisor/mana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2495520"/>
            <a:ext cx="5791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presentative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2952720"/>
            <a:ext cx="57913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investigates in presence of worker and worker represent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3409920"/>
            <a:ext cx="23619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the supervisor agree that the situation endangers health and 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340992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56220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48624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638520"/>
            <a:ext cx="52416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4172040"/>
            <a:ext cx="2252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upervisor takes corrective 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4933800"/>
            <a:ext cx="2252520" cy="20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returns to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943440"/>
            <a:ext cx="24382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oes worker have reasonable grounds to believe work  still endangers health and/or safe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50101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pector called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4629240"/>
            <a:ext cx="5634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705200"/>
            <a:ext cx="565200" cy="285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781520"/>
            <a:ext cx="40140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2320" y="4705200"/>
            <a:ext cx="479160" cy="17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391000"/>
            <a:ext cx="32781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Inspector investigates in presence of worker, employer and worker</a:t>
            </a:r>
            <a:r>
              <a:rPr b="0" i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representativ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5238720"/>
            <a:ext cx="1447920" cy="85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er may be assigned reasonable alternate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924520"/>
            <a:ext cx="2895840" cy="17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ritten Dec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6305400"/>
            <a:ext cx="28958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orrective action if ord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876920" y="226692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17334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2800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32576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6295320" y="3439080"/>
            <a:ext cx="228600" cy="322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5346600">
            <a:off x="3239640" y="3522240"/>
            <a:ext cx="227160" cy="306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14840"/>
            <a:ext cx="342720" cy="133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434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4705200"/>
            <a:ext cx="322200" cy="17172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5645880" y="4850280"/>
            <a:ext cx="228600" cy="2430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892320" y="4622400"/>
            <a:ext cx="228600" cy="2412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5238720"/>
            <a:ext cx="32220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5848200"/>
            <a:ext cx="32256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5480" y="6153120"/>
            <a:ext cx="327240" cy="9540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4857840"/>
            <a:ext cx="32220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4629240"/>
            <a:ext cx="322560" cy="17136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5238720"/>
            <a:ext cx="828720" cy="171360"/>
          </a:xfrm>
          <a:prstGeom prst="leftRightArrow">
            <a:avLst>
              <a:gd name="adj1" fmla="val 50000"/>
              <a:gd name="adj2" fmla="val 962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562200"/>
            <a:ext cx="804600" cy="27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57480" y="1758960"/>
            <a:ext cx="8046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2800440"/>
            <a:ext cx="874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50101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Black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920" y="190080"/>
            <a:ext cx="779472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ight to Refuse Unsafe Work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6591240"/>
            <a:ext cx="428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Newcomers Connecting to Trades Apprenticeship Resources (NeCTAR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6532B-CC7E-4D5D-A145-26E4DBE96B33}" type="slidenum">
              <a:t>1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7:24:02Z</dcterms:modified>
  <cp:revision>164</cp:revision>
  <dc:subject/>
  <dc:title>Newcomers Connecting to Trades Apprenticeship Resources (NeCTAR)</dc:title>
</cp:coreProperties>
</file>