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E63-40D3-4632-9D55-87F801A47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E04B-9C78-49C2-A903-A394FFC2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022-F2C5-46AB-9DD3-63BB725C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5F4-E667-4636-B3BB-9CFB3BD0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F3457-E79D-4995-B1A2-BE89EC7C28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D1A3E-DB90-4111-B35F-8714563C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0B4E9-D89A-4934-93DC-71ECED0D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E31F0-CDA0-4299-A661-5BCC7F2E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49E6D-9BB9-4930-8E27-017C36114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DA9B7-5849-4BAC-9A34-27AFF2B4B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DE482-C184-4F00-8C53-34D7193E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361F-EA87-4E7B-B6DB-532A7710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33902-6B56-4781-A48D-9337A005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164D8-480E-42E5-9A9A-842EBCE8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4FBE0-B4F3-4F49-8DBB-00ADA7FA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368DB-3849-440F-9CFC-3DF877AC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41092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478400" y="182880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308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41092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4478400" y="5172480"/>
            <a:ext cx="19688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B3095D-359E-4179-8A5F-1C9AD32F12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C4FE-8955-429C-85DA-6E5B32F3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243-B11E-42E4-BFF0-6C1D79BF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DD3D-6A8F-499F-BCDA-FE4E003D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92240" y="19080"/>
            <a:ext cx="5441760" cy="48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C73-FD86-4EDA-9999-19794720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10A0-DEEF-41B7-A3E2-C1008FA0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76880" y="517248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B502-6632-418A-A483-69C0B7EE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30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76880" y="1828800"/>
            <a:ext cx="298404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3080" y="5172480"/>
            <a:ext cx="6114960" cy="30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9E1C-7471-41DB-A1A1-5984E2C1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320" y="117360"/>
            <a:ext cx="1294920" cy="1295640"/>
            <a:chOff x="76320" y="117360"/>
            <a:chExt cx="1294920" cy="1295640"/>
          </a:xfrm>
        </p:grpSpPr>
        <p:sp>
          <p:nvSpPr>
            <p:cNvPr id="1" name=""/>
            <p:cNvSpPr/>
            <p:nvPr/>
          </p:nvSpPr>
          <p:spPr>
            <a:xfrm>
              <a:off x="401760" y="250560"/>
              <a:ext cx="491760" cy="58320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31600" y="250560"/>
              <a:ext cx="367920" cy="58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41800" y="769320"/>
              <a:ext cx="472320" cy="5850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57960" y="769320"/>
              <a:ext cx="413280" cy="585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6320" y="680040"/>
              <a:ext cx="629280" cy="5202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89120" y="117360"/>
              <a:ext cx="35280" cy="1295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31920" y="1063800"/>
            <a:ext cx="61704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2240" y="19080"/>
            <a:ext cx="544176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43080" y="1828800"/>
            <a:ext cx="6114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71000" y="8432640"/>
            <a:ext cx="1257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609120" y="8432640"/>
            <a:ext cx="57913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5600880" y="8432640"/>
            <a:ext cx="111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4648-ADF6-4288-8B88-447B356A25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251160"/>
            <a:ext cx="6756120" cy="1402920"/>
            <a:chOff x="0" y="3251160"/>
            <a:chExt cx="6756120" cy="1402920"/>
          </a:xfrm>
        </p:grpSpPr>
        <p:grpSp>
          <p:nvGrpSpPr>
            <p:cNvPr id="50" name=""/>
            <p:cNvGrpSpPr/>
            <p:nvPr/>
          </p:nvGrpSpPr>
          <p:grpSpPr>
            <a:xfrm>
              <a:off x="217800" y="3394800"/>
              <a:ext cx="532800" cy="632880"/>
              <a:chOff x="217800" y="3394800"/>
              <a:chExt cx="532800" cy="632880"/>
            </a:xfrm>
          </p:grpSpPr>
          <p:sp>
            <p:nvSpPr>
              <p:cNvPr id="51" name=""/>
              <p:cNvSpPr/>
              <p:nvPr/>
            </p:nvSpPr>
            <p:spPr>
              <a:xfrm>
                <a:off x="217800" y="3394800"/>
                <a:ext cx="327960" cy="632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04720" y="3394800"/>
                <a:ext cx="2458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10680" y="3957840"/>
              <a:ext cx="552960" cy="632880"/>
              <a:chOff x="310680" y="3957840"/>
              <a:chExt cx="552960" cy="632880"/>
            </a:xfrm>
          </p:grpSpPr>
          <p:sp>
            <p:nvSpPr>
              <p:cNvPr id="54" name=""/>
              <p:cNvSpPr/>
              <p:nvPr/>
            </p:nvSpPr>
            <p:spPr>
              <a:xfrm>
                <a:off x="310680" y="3957840"/>
                <a:ext cx="316080" cy="6328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87160" y="3957840"/>
                <a:ext cx="276480" cy="632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3860280"/>
              <a:ext cx="420120" cy="5626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920" y="3251160"/>
              <a:ext cx="23400" cy="14029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36880" y="4346280"/>
              <a:ext cx="6519240" cy="73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2438280"/>
            <a:ext cx="58291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193320" y="8250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5"/>
          </p:nvPr>
        </p:nvSpPr>
        <p:spPr>
          <a:xfrm>
            <a:off x="5600880" y="8229240"/>
            <a:ext cx="113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D29F-5A48-45A6-9B52-A279EAD692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8191440"/>
            <a:ext cx="5105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Newcomers Connecting to Trades Apprenticeship Re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(NeCT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1600200"/>
            <a:ext cx="5790960" cy="678168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Tahoma"/>
              </a:rPr>
              <a:t>Apprenticeship Pathway Flowchart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181160" y="1752480"/>
            <a:ext cx="2438280" cy="584280"/>
            <a:chOff x="1181160" y="1752480"/>
            <a:chExt cx="2438280" cy="584280"/>
          </a:xfrm>
        </p:grpSpPr>
        <p:sp>
          <p:nvSpPr>
            <p:cNvPr id="102" name=""/>
            <p:cNvSpPr/>
            <p:nvPr/>
          </p:nvSpPr>
          <p:spPr>
            <a:xfrm>
              <a:off x="1181160" y="1752480"/>
              <a:ext cx="2438280" cy="584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47920" y="1849680"/>
              <a:ext cx="1904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.  Visit  Employment Service Provi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181160" y="7194600"/>
            <a:ext cx="2438280" cy="762120"/>
            <a:chOff x="1181160" y="7194600"/>
            <a:chExt cx="2438280" cy="762120"/>
          </a:xfrm>
        </p:grpSpPr>
        <p:sp>
          <p:nvSpPr>
            <p:cNvPr id="105" name=""/>
            <p:cNvSpPr/>
            <p:nvPr/>
          </p:nvSpPr>
          <p:spPr>
            <a:xfrm>
              <a:off x="1181160" y="7194600"/>
              <a:ext cx="2438280" cy="7621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47560" y="7255080"/>
              <a:ext cx="1904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.  Register for Apprenticeship       (Fee: $40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181160" y="2562120"/>
            <a:ext cx="2438280" cy="762120"/>
            <a:chOff x="1181160" y="2562120"/>
            <a:chExt cx="2438280" cy="762120"/>
          </a:xfrm>
        </p:grpSpPr>
        <p:sp>
          <p:nvSpPr>
            <p:cNvPr id="108" name=""/>
            <p:cNvSpPr/>
            <p:nvPr/>
          </p:nvSpPr>
          <p:spPr>
            <a:xfrm>
              <a:off x="1181160" y="2562120"/>
              <a:ext cx="2438280" cy="7621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2624040"/>
              <a:ext cx="2361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.  Learn about Apprenticeship &amp; determine your elig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333600" y="51958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47960" y="4586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523960" y="8001000"/>
            <a:ext cx="457200" cy="304920"/>
            <a:chOff x="2523960" y="8001000"/>
            <a:chExt cx="457200" cy="304920"/>
          </a:xfrm>
        </p:grpSpPr>
        <p:sp>
          <p:nvSpPr>
            <p:cNvPr id="113" name=""/>
            <p:cNvSpPr/>
            <p:nvPr/>
          </p:nvSpPr>
          <p:spPr>
            <a:xfrm>
              <a:off x="2562120" y="8001000"/>
              <a:ext cx="342720" cy="30492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23960" y="80168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1484280" y="4878360"/>
            <a:ext cx="1831680" cy="1103400"/>
            <a:chOff x="1484280" y="4878360"/>
            <a:chExt cx="1831680" cy="1103400"/>
          </a:xfrm>
        </p:grpSpPr>
        <p:sp>
          <p:nvSpPr>
            <p:cNvPr id="116" name=""/>
            <p:cNvSpPr/>
            <p:nvPr/>
          </p:nvSpPr>
          <p:spPr>
            <a:xfrm>
              <a:off x="1484280" y="4878360"/>
              <a:ext cx="1831680" cy="1103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76160" y="5176800"/>
              <a:ext cx="144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n obtain transcripts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484280" y="3549600"/>
            <a:ext cx="1832040" cy="1103400"/>
            <a:chOff x="1484280" y="3549600"/>
            <a:chExt cx="1832040" cy="1103400"/>
          </a:xfrm>
        </p:grpSpPr>
        <p:sp>
          <p:nvSpPr>
            <p:cNvPr id="119" name=""/>
            <p:cNvSpPr/>
            <p:nvPr/>
          </p:nvSpPr>
          <p:spPr>
            <a:xfrm>
              <a:off x="1484280" y="3549600"/>
              <a:ext cx="1832040" cy="1103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747960"/>
              <a:ext cx="1447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leted Grade 12 (Grade 10 for TQAA)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181160" y="6207120"/>
            <a:ext cx="2438280" cy="762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647712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  Search for Spons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03" idx="2"/>
            <a:endCxn id="108" idx="0"/>
          </p:cNvCxnSpPr>
          <p:nvPr/>
        </p:nvCxnSpPr>
        <p:spPr>
          <a:xfrm>
            <a:off x="2400120" y="2308680"/>
            <a:ext cx="720" cy="25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08" idx="2"/>
            <a:endCxn id="119" idx="0"/>
          </p:cNvCxnSpPr>
          <p:nvPr/>
        </p:nvCxnSpPr>
        <p:spPr>
          <a:xfrm>
            <a:off x="2400480" y="3324240"/>
            <a:ext cx="360" cy="22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9" idx="2"/>
            <a:endCxn id="116" idx="0"/>
          </p:cNvCxnSpPr>
          <p:nvPr/>
        </p:nvCxnSpPr>
        <p:spPr>
          <a:xfrm flipH="1">
            <a:off x="2400120" y="4653000"/>
            <a:ext cx="720" cy="22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6" idx="2"/>
            <a:endCxn id="121" idx="0"/>
          </p:cNvCxnSpPr>
          <p:nvPr/>
        </p:nvCxnSpPr>
        <p:spPr>
          <a:xfrm>
            <a:off x="2400120" y="5981760"/>
            <a:ext cx="720" cy="22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27" name=""/>
          <p:cNvGrpSpPr/>
          <p:nvPr/>
        </p:nvGrpSpPr>
        <p:grpSpPr>
          <a:xfrm>
            <a:off x="3819600" y="3809880"/>
            <a:ext cx="1673280" cy="584280"/>
            <a:chOff x="3819600" y="3809880"/>
            <a:chExt cx="1673280" cy="584280"/>
          </a:xfrm>
        </p:grpSpPr>
        <p:sp>
          <p:nvSpPr>
            <p:cNvPr id="128" name=""/>
            <p:cNvSpPr/>
            <p:nvPr/>
          </p:nvSpPr>
          <p:spPr>
            <a:xfrm>
              <a:off x="3819600" y="3809880"/>
              <a:ext cx="1673280" cy="584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84760" y="3873600"/>
              <a:ext cx="1544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Upgrade to required g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9600" y="5202360"/>
            <a:ext cx="1673280" cy="457200"/>
            <a:chOff x="3819600" y="5202360"/>
            <a:chExt cx="1673280" cy="457200"/>
          </a:xfrm>
        </p:grpSpPr>
        <p:sp>
          <p:nvSpPr>
            <p:cNvPr id="131" name=""/>
            <p:cNvSpPr/>
            <p:nvPr/>
          </p:nvSpPr>
          <p:spPr>
            <a:xfrm>
              <a:off x="3819600" y="5202360"/>
              <a:ext cx="1673280" cy="4572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84760" y="5292720"/>
              <a:ext cx="154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ss the GED T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3" name=""/>
          <p:cNvCxnSpPr>
            <a:stCxn id="119" idx="3"/>
            <a:endCxn id="128" idx="1"/>
          </p:cNvCxnSpPr>
          <p:nvPr/>
        </p:nvCxnSpPr>
        <p:spPr>
          <a:xfrm>
            <a:off x="3316320" y="4101480"/>
            <a:ext cx="503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1" idx="2"/>
            <a:endCxn id="105" idx="0"/>
          </p:cNvCxnSpPr>
          <p:nvPr/>
        </p:nvCxnSpPr>
        <p:spPr>
          <a:xfrm>
            <a:off x="2400480" y="6969240"/>
            <a:ext cx="360" cy="22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2438280" y="7924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16" idx="3"/>
            <a:endCxn id="131" idx="1"/>
          </p:cNvCxnSpPr>
          <p:nvPr/>
        </p:nvCxnSpPr>
        <p:spPr>
          <a:xfrm>
            <a:off x="3315960" y="5430240"/>
            <a:ext cx="504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3276720" y="38862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28880" y="5938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8" idx="3"/>
            <a:endCxn id="121" idx="3"/>
          </p:cNvCxnSpPr>
          <p:nvPr/>
        </p:nvCxnSpPr>
        <p:spPr>
          <a:xfrm flipH="1">
            <a:off x="3619440" y="4102200"/>
            <a:ext cx="1873800" cy="2486520"/>
          </a:xfrm>
          <a:prstGeom prst="bentConnector3">
            <a:avLst>
              <a:gd name="adj1" fmla="val -123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/>
          <p:nvPr/>
        </p:nvCxnSpPr>
        <p:spPr>
          <a:xfrm flipH="1">
            <a:off x="3580920" y="5410080"/>
            <a:ext cx="1912320" cy="1185120"/>
          </a:xfrm>
          <a:prstGeom prst="bentConnector3">
            <a:avLst>
              <a:gd name="adj1" fmla="val -11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5715000" y="6324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3317400" y="-1532880"/>
            <a:ext cx="45468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.  Apprenticeship Application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pprenticeship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3DCF-53D4-4A6A-8D05-EC8289483A89}" type="slidenum">
              <a:t>1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1523880"/>
            <a:ext cx="6248160" cy="693432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9080"/>
            <a:ext cx="5943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Tahoma"/>
              </a:rPr>
              <a:t>Apprenticeship Pathway Flowchart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421080" y="1562040"/>
            <a:ext cx="495360" cy="381240"/>
            <a:chOff x="3421080" y="1562040"/>
            <a:chExt cx="495360" cy="381240"/>
          </a:xfrm>
        </p:grpSpPr>
        <p:sp>
          <p:nvSpPr>
            <p:cNvPr id="147" name=""/>
            <p:cNvSpPr/>
            <p:nvPr/>
          </p:nvSpPr>
          <p:spPr>
            <a:xfrm>
              <a:off x="3421080" y="156204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3459240" y="1579680"/>
              <a:ext cx="457200" cy="304920"/>
              <a:chOff x="3459240" y="1579680"/>
              <a:chExt cx="457200" cy="304920"/>
            </a:xfrm>
          </p:grpSpPr>
          <p:sp>
            <p:nvSpPr>
              <p:cNvPr id="149" name=""/>
              <p:cNvSpPr/>
              <p:nvPr/>
            </p:nvSpPr>
            <p:spPr>
              <a:xfrm>
                <a:off x="3497400" y="1579680"/>
                <a:ext cx="342720" cy="304920"/>
              </a:xfrm>
              <a:prstGeom prst="flowChartConnec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459240" y="159552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2857680" y="2975040"/>
            <a:ext cx="1143000" cy="914400"/>
            <a:chOff x="2857680" y="2975040"/>
            <a:chExt cx="1143000" cy="914400"/>
          </a:xfrm>
        </p:grpSpPr>
        <p:sp>
          <p:nvSpPr>
            <p:cNvPr id="152" name=""/>
            <p:cNvSpPr/>
            <p:nvPr/>
          </p:nvSpPr>
          <p:spPr>
            <a:xfrm>
              <a:off x="2857680" y="2975040"/>
              <a:ext cx="1143000" cy="914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10320" y="320364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A Trad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186080" y="32115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81160" y="39736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718160" y="4483080"/>
            <a:ext cx="1673280" cy="507960"/>
            <a:chOff x="4718160" y="4483080"/>
            <a:chExt cx="1673280" cy="507960"/>
          </a:xfrm>
        </p:grpSpPr>
        <p:sp>
          <p:nvSpPr>
            <p:cNvPr id="157" name=""/>
            <p:cNvSpPr/>
            <p:nvPr/>
          </p:nvSpPr>
          <p:spPr>
            <a:xfrm>
              <a:off x="4718160" y="4483080"/>
              <a:ext cx="1673280" cy="5079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83320" y="4508280"/>
              <a:ext cx="154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-CLASS TRAI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880" y="4483080"/>
            <a:ext cx="1673280" cy="507960"/>
            <a:chOff x="434880" y="4483080"/>
            <a:chExt cx="1673280" cy="507960"/>
          </a:xfrm>
        </p:grpSpPr>
        <p:sp>
          <p:nvSpPr>
            <p:cNvPr id="160" name=""/>
            <p:cNvSpPr/>
            <p:nvPr/>
          </p:nvSpPr>
          <p:spPr>
            <a:xfrm>
              <a:off x="434880" y="4483080"/>
              <a:ext cx="1673280" cy="5079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0040" y="4508280"/>
              <a:ext cx="154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N-THE-JOB TRAI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47560" y="6553080"/>
            <a:ext cx="1447920" cy="1370880"/>
            <a:chOff x="547560" y="6553080"/>
            <a:chExt cx="1447920" cy="1370880"/>
          </a:xfrm>
        </p:grpSpPr>
        <p:sp>
          <p:nvSpPr>
            <p:cNvPr id="163" name=""/>
            <p:cNvSpPr/>
            <p:nvPr/>
          </p:nvSpPr>
          <p:spPr>
            <a:xfrm>
              <a:off x="547560" y="6553080"/>
              <a:ext cx="1447920" cy="13708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2280" y="6620760"/>
              <a:ext cx="13377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mployers has authority to “sign off” competencies demonstrated on the job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65" name=""/>
          <p:cNvCxnSpPr>
            <a:stCxn id="161" idx="0"/>
            <a:endCxn id="158" idx="0"/>
          </p:cNvCxnSpPr>
          <p:nvPr/>
        </p:nvCxnSpPr>
        <p:spPr>
          <a:xfrm flipH="1" rot="16200000">
            <a:off x="3413520" y="2367720"/>
            <a:ext cx="2160" cy="4283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3429000" y="3886200"/>
            <a:ext cx="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905360" y="3125880"/>
            <a:ext cx="685800" cy="609480"/>
            <a:chOff x="4905360" y="3125880"/>
            <a:chExt cx="685800" cy="609480"/>
          </a:xfrm>
        </p:grpSpPr>
        <p:sp>
          <p:nvSpPr>
            <p:cNvPr id="168" name=""/>
            <p:cNvSpPr/>
            <p:nvPr/>
          </p:nvSpPr>
          <p:spPr>
            <a:xfrm>
              <a:off x="4924440" y="3125880"/>
              <a:ext cx="647640" cy="60948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05360" y="3201840"/>
              <a:ext cx="685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QAA Tra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562720" y="31734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’d. next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3349080" y="-1582200"/>
            <a:ext cx="45468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.  Apprenticeship Training Pr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2214720" y="1943280"/>
            <a:ext cx="2438280" cy="761760"/>
            <a:chOff x="2214720" y="1943280"/>
            <a:chExt cx="2438280" cy="761760"/>
          </a:xfrm>
        </p:grpSpPr>
        <p:sp>
          <p:nvSpPr>
            <p:cNvPr id="173" name=""/>
            <p:cNvSpPr/>
            <p:nvPr/>
          </p:nvSpPr>
          <p:spPr>
            <a:xfrm>
              <a:off x="2214720" y="1943280"/>
              <a:ext cx="2438280" cy="7617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2520" y="2004840"/>
              <a:ext cx="2361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.  Review prior training and experience with Sponsor and Training Consult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58720" y="5332320"/>
            <a:ext cx="1425600" cy="884160"/>
            <a:chOff x="558720" y="5332320"/>
            <a:chExt cx="1425600" cy="884160"/>
          </a:xfrm>
        </p:grpSpPr>
        <p:sp>
          <p:nvSpPr>
            <p:cNvPr id="176" name=""/>
            <p:cNvSpPr/>
            <p:nvPr/>
          </p:nvSpPr>
          <p:spPr>
            <a:xfrm>
              <a:off x="558720" y="5332320"/>
              <a:ext cx="1425600" cy="8841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4880" y="554508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ior work  experienc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4830840" y="6553080"/>
            <a:ext cx="1447560" cy="1751760"/>
            <a:chOff x="4830840" y="6553080"/>
            <a:chExt cx="1447560" cy="1751760"/>
          </a:xfrm>
        </p:grpSpPr>
        <p:sp>
          <p:nvSpPr>
            <p:cNvPr id="179" name=""/>
            <p:cNvSpPr/>
            <p:nvPr/>
          </p:nvSpPr>
          <p:spPr>
            <a:xfrm>
              <a:off x="4830840" y="6553080"/>
              <a:ext cx="1447560" cy="17517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85560" y="6639840"/>
              <a:ext cx="13374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ou may be eligible for exemption tests.  If no exemption test is available, attend a PLAR Assessmen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842000" y="5332320"/>
            <a:ext cx="1425600" cy="884160"/>
            <a:chOff x="4842000" y="5332320"/>
            <a:chExt cx="1425600" cy="884160"/>
          </a:xfrm>
        </p:grpSpPr>
        <p:sp>
          <p:nvSpPr>
            <p:cNvPr id="182" name=""/>
            <p:cNvSpPr/>
            <p:nvPr/>
          </p:nvSpPr>
          <p:spPr>
            <a:xfrm>
              <a:off x="4842000" y="5332320"/>
              <a:ext cx="1425600" cy="8841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88160" y="554508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ior training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4" name=""/>
          <p:cNvCxnSpPr>
            <a:stCxn id="161" idx="2"/>
            <a:endCxn id="176" idx="0"/>
          </p:cNvCxnSpPr>
          <p:nvPr/>
        </p:nvCxnSpPr>
        <p:spPr>
          <a:xfrm flipH="1">
            <a:off x="1270800" y="4965840"/>
            <a:ext cx="2520" cy="36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5" name=""/>
          <p:cNvCxnSpPr>
            <a:stCxn id="176" idx="2"/>
            <a:endCxn id="163" idx="0"/>
          </p:cNvCxnSpPr>
          <p:nvPr/>
        </p:nvCxnSpPr>
        <p:spPr>
          <a:xfrm>
            <a:off x="1271160" y="621612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58" idx="2"/>
            <a:endCxn id="182" idx="0"/>
          </p:cNvCxnSpPr>
          <p:nvPr/>
        </p:nvCxnSpPr>
        <p:spPr>
          <a:xfrm flipH="1">
            <a:off x="5554440" y="4965840"/>
            <a:ext cx="2160" cy="36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82" idx="2"/>
            <a:endCxn id="179" idx="0"/>
          </p:cNvCxnSpPr>
          <p:nvPr/>
        </p:nvCxnSpPr>
        <p:spPr>
          <a:xfrm>
            <a:off x="5554440" y="621612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"/>
          <p:cNvSpPr/>
          <p:nvPr/>
        </p:nvSpPr>
        <p:spPr>
          <a:xfrm>
            <a:off x="809640" y="6229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76760" y="6219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209680" y="5521320"/>
            <a:ext cx="914400" cy="507960"/>
            <a:chOff x="2209680" y="5521320"/>
            <a:chExt cx="914400" cy="507960"/>
          </a:xfrm>
        </p:grpSpPr>
        <p:sp>
          <p:nvSpPr>
            <p:cNvPr id="191" name=""/>
            <p:cNvSpPr/>
            <p:nvPr/>
          </p:nvSpPr>
          <p:spPr>
            <a:xfrm>
              <a:off x="2209680" y="5521320"/>
              <a:ext cx="914400" cy="5079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44240" y="5546520"/>
              <a:ext cx="84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 to Step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733920" y="5519880"/>
            <a:ext cx="914400" cy="507960"/>
            <a:chOff x="3733920" y="5519880"/>
            <a:chExt cx="914400" cy="507960"/>
          </a:xfrm>
        </p:grpSpPr>
        <p:sp>
          <p:nvSpPr>
            <p:cNvPr id="194" name=""/>
            <p:cNvSpPr/>
            <p:nvPr/>
          </p:nvSpPr>
          <p:spPr>
            <a:xfrm>
              <a:off x="3733920" y="5519880"/>
              <a:ext cx="914400" cy="5079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68480" y="5545080"/>
              <a:ext cx="84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 to Step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96" name=""/>
          <p:cNvCxnSpPr>
            <a:stCxn id="177" idx="3"/>
            <a:endCxn id="191" idx="1"/>
          </p:cNvCxnSpPr>
          <p:nvPr/>
        </p:nvCxnSpPr>
        <p:spPr>
          <a:xfrm>
            <a:off x="1923840" y="5773320"/>
            <a:ext cx="286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2" idx="1"/>
            <a:endCxn id="195" idx="3"/>
          </p:cNvCxnSpPr>
          <p:nvPr/>
        </p:nvCxnSpPr>
        <p:spPr>
          <a:xfrm flipH="1" flipV="1">
            <a:off x="4612680" y="5772960"/>
            <a:ext cx="2293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1838160" y="54770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14840" y="5452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038480" y="343836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3" idx="2"/>
            <a:endCxn id="152" idx="0"/>
          </p:cNvCxnSpPr>
          <p:nvPr/>
        </p:nvCxnSpPr>
        <p:spPr>
          <a:xfrm flipH="1">
            <a:off x="3428280" y="2705040"/>
            <a:ext cx="540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pprenticeship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5598-6B9C-4CA1-A90F-2F9AC74BC693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04920" y="1676520"/>
            <a:ext cx="6248160" cy="678168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19080"/>
            <a:ext cx="5943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Tahoma"/>
              </a:rPr>
              <a:t>Apprenticeship Pathway Flowchart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2168640" y="3970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187800" y="4479840"/>
            <a:ext cx="1673280" cy="507960"/>
            <a:chOff x="3187800" y="4479840"/>
            <a:chExt cx="1673280" cy="507960"/>
          </a:xfrm>
        </p:grpSpPr>
        <p:sp>
          <p:nvSpPr>
            <p:cNvPr id="207" name=""/>
            <p:cNvSpPr/>
            <p:nvPr/>
          </p:nvSpPr>
          <p:spPr>
            <a:xfrm>
              <a:off x="3187800" y="4479840"/>
              <a:ext cx="1673280" cy="5079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52960" y="4505040"/>
              <a:ext cx="154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-CLASS TRAI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34880" y="4479840"/>
            <a:ext cx="1673280" cy="507960"/>
            <a:chOff x="434880" y="4479840"/>
            <a:chExt cx="1673280" cy="507960"/>
          </a:xfrm>
        </p:grpSpPr>
        <p:sp>
          <p:nvSpPr>
            <p:cNvPr id="210" name=""/>
            <p:cNvSpPr/>
            <p:nvPr/>
          </p:nvSpPr>
          <p:spPr>
            <a:xfrm>
              <a:off x="434880" y="4479840"/>
              <a:ext cx="1673280" cy="5079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0040" y="4505040"/>
              <a:ext cx="154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N-THE-JOB TRAI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09760" y="6613560"/>
            <a:ext cx="1509480" cy="1526040"/>
            <a:chOff x="509760" y="6613560"/>
            <a:chExt cx="1509480" cy="1526040"/>
          </a:xfrm>
        </p:grpSpPr>
        <p:sp>
          <p:nvSpPr>
            <p:cNvPr id="213" name=""/>
            <p:cNvSpPr/>
            <p:nvPr/>
          </p:nvSpPr>
          <p:spPr>
            <a:xfrm>
              <a:off x="509760" y="6613560"/>
              <a:ext cx="1509480" cy="152604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6640" y="6689160"/>
              <a:ext cx="1394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ou may have your hours reduced on your contract of apprenticeship with required documentatio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15" name=""/>
          <p:cNvCxnSpPr>
            <a:stCxn id="211" idx="0"/>
            <a:endCxn id="208" idx="0"/>
          </p:cNvCxnSpPr>
          <p:nvPr/>
        </p:nvCxnSpPr>
        <p:spPr>
          <a:xfrm flipH="1" rot="16200000">
            <a:off x="2648880" y="3129480"/>
            <a:ext cx="2160" cy="2753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 rot="16200000">
            <a:off x="3450600" y="-1468440"/>
            <a:ext cx="45468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. Apprenticeship Training Preparation (cont’d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58720" y="5214960"/>
            <a:ext cx="1425600" cy="884160"/>
            <a:chOff x="558720" y="5214960"/>
            <a:chExt cx="1425600" cy="884160"/>
          </a:xfrm>
        </p:grpSpPr>
        <p:sp>
          <p:nvSpPr>
            <p:cNvPr id="218" name=""/>
            <p:cNvSpPr/>
            <p:nvPr/>
          </p:nvSpPr>
          <p:spPr>
            <a:xfrm>
              <a:off x="558720" y="5214960"/>
              <a:ext cx="1425600" cy="8841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880" y="5427720"/>
              <a:ext cx="1218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ior work  experienc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876920" y="5130720"/>
            <a:ext cx="1523880" cy="1403280"/>
            <a:chOff x="4876920" y="5130720"/>
            <a:chExt cx="1523880" cy="1403280"/>
          </a:xfrm>
        </p:grpSpPr>
        <p:sp>
          <p:nvSpPr>
            <p:cNvPr id="221" name=""/>
            <p:cNvSpPr/>
            <p:nvPr/>
          </p:nvSpPr>
          <p:spPr>
            <a:xfrm>
              <a:off x="4876920" y="5130720"/>
              <a:ext cx="1523880" cy="14032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30920" y="5141880"/>
              <a:ext cx="138564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ou may be eligible for exemption tests.  If no test is available, attend a PLAR Assessmen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3476520" y="5386320"/>
            <a:ext cx="1095480" cy="884160"/>
            <a:chOff x="3476520" y="5386320"/>
            <a:chExt cx="1095480" cy="884160"/>
          </a:xfrm>
        </p:grpSpPr>
        <p:sp>
          <p:nvSpPr>
            <p:cNvPr id="224" name=""/>
            <p:cNvSpPr/>
            <p:nvPr/>
          </p:nvSpPr>
          <p:spPr>
            <a:xfrm>
              <a:off x="3476520" y="5386320"/>
              <a:ext cx="1095480" cy="8841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88840" y="5599080"/>
              <a:ext cx="936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rior training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26" name=""/>
          <p:cNvCxnSpPr>
            <a:stCxn id="211" idx="2"/>
            <a:endCxn id="218" idx="0"/>
          </p:cNvCxnSpPr>
          <p:nvPr/>
        </p:nvCxnSpPr>
        <p:spPr>
          <a:xfrm flipH="1">
            <a:off x="1270800" y="4962240"/>
            <a:ext cx="252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18" idx="2"/>
            <a:endCxn id="213" idx="0"/>
          </p:cNvCxnSpPr>
          <p:nvPr/>
        </p:nvCxnSpPr>
        <p:spPr>
          <a:xfrm flipH="1">
            <a:off x="1264680" y="6098760"/>
            <a:ext cx="6840" cy="51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08" idx="2"/>
            <a:endCxn id="224" idx="0"/>
          </p:cNvCxnSpPr>
          <p:nvPr/>
        </p:nvCxnSpPr>
        <p:spPr>
          <a:xfrm flipH="1">
            <a:off x="4024080" y="4962240"/>
            <a:ext cx="2160" cy="42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809640" y="61117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54990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209680" y="5403960"/>
            <a:ext cx="762120" cy="507960"/>
            <a:chOff x="2209680" y="5403960"/>
            <a:chExt cx="762120" cy="507960"/>
          </a:xfrm>
        </p:grpSpPr>
        <p:sp>
          <p:nvSpPr>
            <p:cNvPr id="232" name=""/>
            <p:cNvSpPr/>
            <p:nvPr/>
          </p:nvSpPr>
          <p:spPr>
            <a:xfrm>
              <a:off x="2209680" y="5403960"/>
              <a:ext cx="762120" cy="5079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38480" y="5429160"/>
              <a:ext cx="704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 to Step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34" name=""/>
          <p:cNvCxnSpPr>
            <a:stCxn id="219" idx="3"/>
            <a:endCxn id="232" idx="1"/>
          </p:cNvCxnSpPr>
          <p:nvPr/>
        </p:nvCxnSpPr>
        <p:spPr>
          <a:xfrm>
            <a:off x="1923840" y="5656320"/>
            <a:ext cx="286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1838160" y="5359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476520" y="6859440"/>
            <a:ext cx="1095480" cy="884160"/>
            <a:chOff x="3476520" y="6859440"/>
            <a:chExt cx="1095480" cy="884160"/>
          </a:xfrm>
        </p:grpSpPr>
        <p:sp>
          <p:nvSpPr>
            <p:cNvPr id="237" name=""/>
            <p:cNvSpPr/>
            <p:nvPr/>
          </p:nvSpPr>
          <p:spPr>
            <a:xfrm>
              <a:off x="3476520" y="6859440"/>
              <a:ext cx="1095480" cy="88416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78400" y="7156080"/>
              <a:ext cx="93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rade12 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876920" y="6730920"/>
            <a:ext cx="1523520" cy="1143000"/>
            <a:chOff x="4876920" y="6730920"/>
            <a:chExt cx="1523520" cy="1143000"/>
          </a:xfrm>
        </p:grpSpPr>
        <p:sp>
          <p:nvSpPr>
            <p:cNvPr id="240" name=""/>
            <p:cNvSpPr/>
            <p:nvPr/>
          </p:nvSpPr>
          <p:spPr>
            <a:xfrm>
              <a:off x="4876920" y="6730920"/>
              <a:ext cx="1523520" cy="11430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931640" y="6785640"/>
              <a:ext cx="138420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You may have your hours reduced on your contract of apprenticeshi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368960" y="692136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" name=""/>
          <p:cNvCxnSpPr>
            <a:stCxn id="224" idx="3"/>
            <a:endCxn id="221" idx="1"/>
          </p:cNvCxnSpPr>
          <p:nvPr/>
        </p:nvCxnSpPr>
        <p:spPr>
          <a:xfrm>
            <a:off x="4571640" y="5829480"/>
            <a:ext cx="305640" cy="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37" idx="3"/>
            <a:endCxn id="240" idx="1"/>
          </p:cNvCxnSpPr>
          <p:nvPr/>
        </p:nvCxnSpPr>
        <p:spPr>
          <a:xfrm>
            <a:off x="4571640" y="73022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24" idx="2"/>
            <a:endCxn id="237" idx="0"/>
          </p:cNvCxnSpPr>
          <p:nvPr/>
        </p:nvCxnSpPr>
        <p:spPr>
          <a:xfrm>
            <a:off x="4024080" y="6270480"/>
            <a:ext cx="108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3632040" y="66038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416400" y="7975440"/>
            <a:ext cx="1218960" cy="330480"/>
            <a:chOff x="3416400" y="7975440"/>
            <a:chExt cx="1218960" cy="330480"/>
          </a:xfrm>
        </p:grpSpPr>
        <p:sp>
          <p:nvSpPr>
            <p:cNvPr id="248" name=""/>
            <p:cNvSpPr/>
            <p:nvPr/>
          </p:nvSpPr>
          <p:spPr>
            <a:xfrm>
              <a:off x="3416400" y="7975440"/>
              <a:ext cx="1218960" cy="330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63560" y="799056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 to Step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0" name=""/>
          <p:cNvCxnSpPr>
            <a:stCxn id="237" idx="2"/>
            <a:endCxn id="249" idx="0"/>
          </p:cNvCxnSpPr>
          <p:nvPr/>
        </p:nvCxnSpPr>
        <p:spPr>
          <a:xfrm>
            <a:off x="4024440" y="7743960"/>
            <a:ext cx="2160" cy="24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" name=""/>
          <p:cNvSpPr/>
          <p:nvPr/>
        </p:nvSpPr>
        <p:spPr>
          <a:xfrm>
            <a:off x="3632040" y="77216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603520" y="1727280"/>
            <a:ext cx="495360" cy="380880"/>
            <a:chOff x="2603520" y="1727280"/>
            <a:chExt cx="495360" cy="380880"/>
          </a:xfrm>
        </p:grpSpPr>
        <p:sp>
          <p:nvSpPr>
            <p:cNvPr id="253" name=""/>
            <p:cNvSpPr/>
            <p:nvPr/>
          </p:nvSpPr>
          <p:spPr>
            <a:xfrm>
              <a:off x="2603520" y="17272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"/>
            <p:cNvGrpSpPr/>
            <p:nvPr/>
          </p:nvGrpSpPr>
          <p:grpSpPr>
            <a:xfrm>
              <a:off x="2641680" y="1744560"/>
              <a:ext cx="457200" cy="304560"/>
              <a:chOff x="2641680" y="1744560"/>
              <a:chExt cx="457200" cy="304560"/>
            </a:xfrm>
          </p:grpSpPr>
          <p:sp>
            <p:nvSpPr>
              <p:cNvPr id="255" name=""/>
              <p:cNvSpPr/>
              <p:nvPr/>
            </p:nvSpPr>
            <p:spPr>
              <a:xfrm>
                <a:off x="2679840" y="1744560"/>
                <a:ext cx="342720" cy="304560"/>
              </a:xfrm>
              <a:prstGeom prst="flowChartConnec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41680" y="1760040"/>
                <a:ext cx="457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" name=""/>
          <p:cNvGrpSpPr/>
          <p:nvPr/>
        </p:nvGrpSpPr>
        <p:grpSpPr>
          <a:xfrm>
            <a:off x="1397160" y="2095560"/>
            <a:ext cx="2438280" cy="762120"/>
            <a:chOff x="1397160" y="2095560"/>
            <a:chExt cx="2438280" cy="762120"/>
          </a:xfrm>
        </p:grpSpPr>
        <p:sp>
          <p:nvSpPr>
            <p:cNvPr id="258" name=""/>
            <p:cNvSpPr/>
            <p:nvPr/>
          </p:nvSpPr>
          <p:spPr>
            <a:xfrm>
              <a:off x="1397160" y="2095560"/>
              <a:ext cx="2438280" cy="76212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34960" y="2157480"/>
              <a:ext cx="2361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.  Review prior training and experience with Sponsor and Training Consult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60" name=""/>
          <p:cNvCxnSpPr/>
          <p:nvPr/>
        </p:nvCxnSpPr>
        <p:spPr>
          <a:xfrm flipH="1">
            <a:off x="2610720" y="2882880"/>
            <a:ext cx="540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61" name=""/>
          <p:cNvGrpSpPr/>
          <p:nvPr/>
        </p:nvGrpSpPr>
        <p:grpSpPr>
          <a:xfrm>
            <a:off x="2044800" y="3124080"/>
            <a:ext cx="1143000" cy="914400"/>
            <a:chOff x="2044800" y="3124080"/>
            <a:chExt cx="1143000" cy="914400"/>
          </a:xfrm>
        </p:grpSpPr>
        <p:sp>
          <p:nvSpPr>
            <p:cNvPr id="262" name=""/>
            <p:cNvSpPr/>
            <p:nvPr/>
          </p:nvSpPr>
          <p:spPr>
            <a:xfrm>
              <a:off x="2044800" y="3124080"/>
              <a:ext cx="1143000" cy="914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97440" y="33526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QAA Trad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2616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pprenticeship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DA60-4715-49A7-B769-A1BBAC05BB05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3520" y="1600200"/>
            <a:ext cx="5790960" cy="6781680"/>
          </a:xfrm>
          <a:prstGeom prst="rect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19080"/>
            <a:ext cx="594360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99"/>
                </a:solidFill>
                <a:latin typeface="Tahoma"/>
              </a:rPr>
              <a:t>Apprenticeship Pathway Flowchart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"/>
          <p:cNvSpPr/>
          <p:nvPr/>
        </p:nvSpPr>
        <p:spPr>
          <a:xfrm>
            <a:off x="4419720" y="44323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2541600" y="4118040"/>
            <a:ext cx="1832040" cy="1103400"/>
            <a:chOff x="2541600" y="4118040"/>
            <a:chExt cx="1832040" cy="1103400"/>
          </a:xfrm>
        </p:grpSpPr>
        <p:sp>
          <p:nvSpPr>
            <p:cNvPr id="270" name=""/>
            <p:cNvSpPr/>
            <p:nvPr/>
          </p:nvSpPr>
          <p:spPr>
            <a:xfrm>
              <a:off x="2541600" y="4118040"/>
              <a:ext cx="1832040" cy="1103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62280" y="4416480"/>
              <a:ext cx="1447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stricted or Compulsory Trade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1981080" y="44132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995400" y="5450040"/>
            <a:ext cx="1828800" cy="1941480"/>
            <a:chOff x="995400" y="5450040"/>
            <a:chExt cx="1828800" cy="1941480"/>
          </a:xfrm>
        </p:grpSpPr>
        <p:sp>
          <p:nvSpPr>
            <p:cNvPr id="274" name=""/>
            <p:cNvSpPr/>
            <p:nvPr/>
          </p:nvSpPr>
          <p:spPr>
            <a:xfrm>
              <a:off x="995400" y="5450040"/>
              <a:ext cx="1828800" cy="1941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66680" y="5553000"/>
              <a:ext cx="1687680" cy="17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f exam exists for the trade, you may apply for the C of Q Exam on a voluntary basis.      If so, go to Certification Pathway Flowchart (Step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I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, Preparing for Certificat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065480" y="5494320"/>
            <a:ext cx="1828800" cy="1058760"/>
            <a:chOff x="4065480" y="5494320"/>
            <a:chExt cx="1828800" cy="1058760"/>
          </a:xfrm>
        </p:grpSpPr>
        <p:sp>
          <p:nvSpPr>
            <p:cNvPr id="277" name=""/>
            <p:cNvSpPr/>
            <p:nvPr/>
          </p:nvSpPr>
          <p:spPr>
            <a:xfrm>
              <a:off x="4065480" y="5494320"/>
              <a:ext cx="1828800" cy="105876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35320" y="5651640"/>
              <a:ext cx="1687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o to Certification Pathway Flowchart (Step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III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, Preparing for Certificat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3454560" y="1676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0" idx="3"/>
            <a:endCxn id="277" idx="0"/>
          </p:cNvCxnSpPr>
          <p:nvPr/>
        </p:nvCxnSpPr>
        <p:spPr>
          <a:xfrm>
            <a:off x="4373640" y="4669920"/>
            <a:ext cx="606960" cy="82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0" idx="1"/>
            <a:endCxn id="274" idx="0"/>
          </p:cNvCxnSpPr>
          <p:nvPr/>
        </p:nvCxnSpPr>
        <p:spPr>
          <a:xfrm flipV="1" rot="10800000">
            <a:off x="1909080" y="4669920"/>
            <a:ext cx="632520" cy="780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 rot="16200000">
            <a:off x="3269880" y="-1594800"/>
            <a:ext cx="45468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III.  Obtain Cer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22960" y="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816200" y="2057400"/>
            <a:ext cx="3276360" cy="609480"/>
            <a:chOff x="1816200" y="2057400"/>
            <a:chExt cx="3276360" cy="609480"/>
          </a:xfrm>
        </p:grpSpPr>
        <p:sp>
          <p:nvSpPr>
            <p:cNvPr id="285" name=""/>
            <p:cNvSpPr/>
            <p:nvPr/>
          </p:nvSpPr>
          <p:spPr>
            <a:xfrm>
              <a:off x="1816200" y="2057400"/>
              <a:ext cx="3276360" cy="609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92160" y="2133720"/>
              <a:ext cx="3123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.  Complete On-the-Job Training and  In-class Trai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816200" y="3124080"/>
            <a:ext cx="3276360" cy="609480"/>
            <a:chOff x="1816200" y="3124080"/>
            <a:chExt cx="3276360" cy="609480"/>
          </a:xfrm>
        </p:grpSpPr>
        <p:sp>
          <p:nvSpPr>
            <p:cNvPr id="288" name=""/>
            <p:cNvSpPr/>
            <p:nvPr/>
          </p:nvSpPr>
          <p:spPr>
            <a:xfrm>
              <a:off x="1816200" y="3124080"/>
              <a:ext cx="3276360" cy="6094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92160" y="3290760"/>
              <a:ext cx="3123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.  Apply for Cert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90" name=""/>
          <p:cNvCxnSpPr>
            <a:stCxn id="285" idx="2"/>
            <a:endCxn id="288" idx="0"/>
          </p:cNvCxnSpPr>
          <p:nvPr/>
        </p:nvCxnSpPr>
        <p:spPr>
          <a:xfrm>
            <a:off x="3454200" y="2666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88" idx="2"/>
            <a:endCxn id="270" idx="0"/>
          </p:cNvCxnSpPr>
          <p:nvPr/>
        </p:nvCxnSpPr>
        <p:spPr>
          <a:xfrm>
            <a:off x="3454560" y="3733560"/>
            <a:ext cx="3600" cy="384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458280" y="8685360"/>
            <a:ext cx="29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Resources for Internationally - Trained Tradespeop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743200"/>
                <a:tab algn="r" pos="5486400"/>
                <a:tab algn="r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Apprenticeship Flow Cha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44F-5396-4BB5-AFF7-A53BD4A18810}" type="slidenum">
              <a:t>4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18:52:31Z</dcterms:created>
  <dc:creator>Jane</dc:creator>
  <dc:description/>
  <dc:language>en-US</dc:language>
  <cp:lastModifiedBy>Carolyn</cp:lastModifiedBy>
  <dcterms:modified xsi:type="dcterms:W3CDTF">2005-08-24T19:08:13Z</dcterms:modified>
  <cp:revision>159</cp:revision>
  <dc:subject/>
  <dc:title>Newcomers Connecting to Trades Apprenticeship Resources (NeCTAR)</dc:title>
</cp:coreProperties>
</file>