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D24C-D876-426B-8140-E095F9C0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08E-5CB8-4E1A-82B7-1DFDA786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5E9-CC2E-4654-8BA6-89224E08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EEB-8A01-4F3B-A654-99B354F2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9E95E-0830-4A78-AFF7-407D379416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0D9DA-E0E1-402D-AE35-C473DA53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68B90-7AD9-4988-AE75-DFCF6174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0284F-3159-4DC1-8117-29C86D28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467BB-51A4-4FBB-87DE-324DE73A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9A970-5BE2-4CE8-A9BB-9F200F79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56BB0-A906-4010-9DBC-2043DFF8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860-6909-42E2-9E5F-59FC3896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05047-BAB1-41B6-9C97-8AD98871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80A7A-9E46-4252-9989-DD7CD31D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D0515-36C7-4C25-80EF-A25ABF2B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C65A1-9E79-4D46-92E1-ABCA0547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5A958-4ED4-4688-8D5B-75774EC77E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51D-10A8-4486-96F5-F662F9E0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E27-DC8E-48F2-A63E-AB098692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4F8-22E0-4914-9B21-843F5140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637-F668-437E-92CF-5B4EB123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611-B46F-4354-A53C-C80CE26E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D91-A333-4950-9B75-2DD814CD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12C-36DB-423A-98B7-69BC5588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43264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27B3-1512-4CC3-B937-2863DC6933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458E-0A34-4FDF-BD50-4EA0351130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981080"/>
            <a:ext cx="5790960" cy="640080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1880" y="456840"/>
            <a:ext cx="56134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267360" y="-851040"/>
            <a:ext cx="454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MTCU Assessment Prepa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09680" y="2311560"/>
            <a:ext cx="3396960" cy="6070320"/>
            <a:chOff x="2209680" y="2311560"/>
            <a:chExt cx="3396960" cy="6070320"/>
          </a:xfrm>
        </p:grpSpPr>
        <p:grpSp>
          <p:nvGrpSpPr>
            <p:cNvPr id="103" name=""/>
            <p:cNvGrpSpPr/>
            <p:nvPr/>
          </p:nvGrpSpPr>
          <p:grpSpPr>
            <a:xfrm>
              <a:off x="2209680" y="2311560"/>
              <a:ext cx="2438280" cy="685800"/>
              <a:chOff x="2209680" y="2311560"/>
              <a:chExt cx="2438280" cy="685800"/>
            </a:xfrm>
          </p:grpSpPr>
          <p:sp>
            <p:nvSpPr>
              <p:cNvPr id="104" name=""/>
              <p:cNvSpPr/>
              <p:nvPr/>
            </p:nvSpPr>
            <p:spPr>
              <a:xfrm>
                <a:off x="2209680" y="2311560"/>
                <a:ext cx="2438280" cy="6858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6440" y="2426040"/>
                <a:ext cx="1904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1.  Visit  Employment Service Provi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2209680" y="3556080"/>
              <a:ext cx="2438280" cy="685800"/>
              <a:chOff x="2209680" y="3556080"/>
              <a:chExt cx="2438280" cy="685800"/>
            </a:xfrm>
          </p:grpSpPr>
          <p:sp>
            <p:nvSpPr>
              <p:cNvPr id="107" name=""/>
              <p:cNvSpPr/>
              <p:nvPr/>
            </p:nvSpPr>
            <p:spPr>
              <a:xfrm>
                <a:off x="2209680" y="3556080"/>
                <a:ext cx="2438280" cy="6858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76440" y="3670560"/>
                <a:ext cx="1904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.  Arrange document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362320" y="4802040"/>
              <a:ext cx="2133360" cy="1371600"/>
              <a:chOff x="2362320" y="4802040"/>
              <a:chExt cx="2133360" cy="1371600"/>
            </a:xfrm>
          </p:grpSpPr>
          <p:sp>
            <p:nvSpPr>
              <p:cNvPr id="110" name=""/>
              <p:cNvSpPr/>
              <p:nvPr/>
            </p:nvSpPr>
            <p:spPr>
              <a:xfrm>
                <a:off x="2362320" y="4802040"/>
                <a:ext cx="2133360" cy="137160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895480" y="5168880"/>
                <a:ext cx="10663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ocuments in English or Frenc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209680" y="6777000"/>
              <a:ext cx="2438280" cy="685800"/>
              <a:chOff x="2209680" y="6777000"/>
              <a:chExt cx="2438280" cy="685800"/>
            </a:xfrm>
          </p:grpSpPr>
          <p:sp>
            <p:nvSpPr>
              <p:cNvPr id="113" name=""/>
              <p:cNvSpPr/>
              <p:nvPr/>
            </p:nvSpPr>
            <p:spPr>
              <a:xfrm>
                <a:off x="2209680" y="6777000"/>
                <a:ext cx="2438280" cy="685800"/>
              </a:xfrm>
              <a:prstGeom prst="flowChart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76440" y="6891480"/>
                <a:ext cx="19047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3.  Get documents transl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5" name=""/>
            <p:cNvCxnSpPr>
              <a:stCxn id="104" idx="2"/>
              <a:endCxn id="107" idx="0"/>
            </p:cNvCxnSpPr>
            <p:nvPr/>
          </p:nvCxnSpPr>
          <p:spPr>
            <a:xfrm>
              <a:off x="3429000" y="2997360"/>
              <a:ext cx="360" cy="559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07" idx="2"/>
              <a:endCxn id="110" idx="0"/>
            </p:cNvCxnSpPr>
            <p:nvPr/>
          </p:nvCxnSpPr>
          <p:spPr>
            <a:xfrm>
              <a:off x="3429000" y="424188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0" idx="2"/>
              <a:endCxn id="113" idx="0"/>
            </p:cNvCxnSpPr>
            <p:nvPr/>
          </p:nvCxnSpPr>
          <p:spPr>
            <a:xfrm>
              <a:off x="3429000" y="6173640"/>
              <a:ext cx="360" cy="60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8" name=""/>
            <p:cNvSpPr/>
            <p:nvPr/>
          </p:nvSpPr>
          <p:spPr>
            <a:xfrm>
              <a:off x="3429000" y="63244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7760" y="52434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" name=""/>
            <p:cNvCxnSpPr>
              <a:stCxn id="113" idx="2"/>
              <a:endCxn id="99" idx="2"/>
            </p:cNvCxnSpPr>
            <p:nvPr/>
          </p:nvCxnSpPr>
          <p:spPr>
            <a:xfrm>
              <a:off x="3429000" y="7462800"/>
              <a:ext cx="360" cy="91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1" name=""/>
            <p:cNvCxnSpPr/>
            <p:nvPr/>
          </p:nvCxnSpPr>
          <p:spPr>
            <a:xfrm flipH="1">
              <a:off x="3428280" y="5486040"/>
              <a:ext cx="1067400" cy="2894760"/>
            </a:xfrm>
            <a:prstGeom prst="bentConnector4">
              <a:avLst>
                <a:gd name="adj1" fmla="val -104149"/>
                <a:gd name="adj2" fmla="val 8128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122" name=""/>
            <p:cNvGrpSpPr/>
            <p:nvPr/>
          </p:nvGrpSpPr>
          <p:grpSpPr>
            <a:xfrm>
              <a:off x="2959200" y="8048520"/>
              <a:ext cx="457200" cy="304920"/>
              <a:chOff x="2959200" y="8048520"/>
              <a:chExt cx="457200" cy="304920"/>
            </a:xfrm>
          </p:grpSpPr>
          <p:sp>
            <p:nvSpPr>
              <p:cNvPr id="123" name=""/>
              <p:cNvSpPr/>
              <p:nvPr/>
            </p:nvSpPr>
            <p:spPr>
              <a:xfrm>
                <a:off x="2997360" y="8048520"/>
                <a:ext cx="342720" cy="30492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959200" y="806436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H="1">
              <a:off x="3428640" y="78343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429000" y="0"/>
            <a:ext cx="3429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87E-9AB0-404A-9962-0874642B98AF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981080"/>
            <a:ext cx="5790960" cy="640080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94280" y="-856440"/>
            <a:ext cx="454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Temporary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09680" y="2487600"/>
            <a:ext cx="2438640" cy="685800"/>
            <a:chOff x="2209680" y="2487600"/>
            <a:chExt cx="2438640" cy="685800"/>
          </a:xfrm>
        </p:grpSpPr>
        <p:sp>
          <p:nvSpPr>
            <p:cNvPr id="132" name=""/>
            <p:cNvSpPr/>
            <p:nvPr/>
          </p:nvSpPr>
          <p:spPr>
            <a:xfrm>
              <a:off x="2209680" y="2487600"/>
              <a:ext cx="24386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05080" y="2511360"/>
              <a:ext cx="2247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Have your skills &amp; experience assessed by   Branch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995560" y="6629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362320" y="3571920"/>
            <a:ext cx="2133360" cy="1371600"/>
            <a:chOff x="2362320" y="3571920"/>
            <a:chExt cx="2133360" cy="1371600"/>
          </a:xfrm>
        </p:grpSpPr>
        <p:sp>
          <p:nvSpPr>
            <p:cNvPr id="136" name=""/>
            <p:cNvSpPr/>
            <p:nvPr/>
          </p:nvSpPr>
          <p:spPr>
            <a:xfrm>
              <a:off x="2362320" y="3571920"/>
              <a:ext cx="2133360" cy="137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5040" y="402912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atisfied requiremen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362320" y="5248440"/>
            <a:ext cx="2133360" cy="1371600"/>
            <a:chOff x="2362320" y="5248440"/>
            <a:chExt cx="2133360" cy="1371600"/>
          </a:xfrm>
        </p:grpSpPr>
        <p:sp>
          <p:nvSpPr>
            <p:cNvPr id="139" name=""/>
            <p:cNvSpPr/>
            <p:nvPr/>
          </p:nvSpPr>
          <p:spPr>
            <a:xfrm>
              <a:off x="2362320" y="5248440"/>
              <a:ext cx="2133360" cy="137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05040" y="570564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ed more documentation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2209680" y="7000920"/>
            <a:ext cx="2438640" cy="685800"/>
            <a:chOff x="2209680" y="7000920"/>
            <a:chExt cx="2438640" cy="685800"/>
          </a:xfrm>
        </p:grpSpPr>
        <p:sp>
          <p:nvSpPr>
            <p:cNvPr id="142" name=""/>
            <p:cNvSpPr/>
            <p:nvPr/>
          </p:nvSpPr>
          <p:spPr>
            <a:xfrm>
              <a:off x="2209680" y="7000920"/>
              <a:ext cx="2438640" cy="6858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05080" y="7024680"/>
              <a:ext cx="2247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Obtain further documentation or consult with Branch 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4" name=""/>
          <p:cNvCxnSpPr>
            <a:stCxn id="128" idx="0"/>
            <a:endCxn id="133" idx="0"/>
          </p:cNvCxnSpPr>
          <p:nvPr/>
        </p:nvCxnSpPr>
        <p:spPr>
          <a:xfrm>
            <a:off x="3428640" y="19807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2" idx="2"/>
            <a:endCxn id="136" idx="0"/>
          </p:cNvCxnSpPr>
          <p:nvPr/>
        </p:nvCxnSpPr>
        <p:spPr>
          <a:xfrm>
            <a:off x="3428640" y="3173040"/>
            <a:ext cx="1080" cy="3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6" idx="2"/>
            <a:endCxn id="139" idx="0"/>
          </p:cNvCxnSpPr>
          <p:nvPr/>
        </p:nvCxnSpPr>
        <p:spPr>
          <a:xfrm>
            <a:off x="3428640" y="4943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8120" y="49197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48080" y="2038320"/>
            <a:ext cx="457200" cy="304920"/>
            <a:chOff x="3448080" y="2038320"/>
            <a:chExt cx="457200" cy="304920"/>
          </a:xfrm>
        </p:grpSpPr>
        <p:sp>
          <p:nvSpPr>
            <p:cNvPr id="149" name=""/>
            <p:cNvSpPr/>
            <p:nvPr/>
          </p:nvSpPr>
          <p:spPr>
            <a:xfrm>
              <a:off x="3486240" y="203832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48080" y="2054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510000" y="8039160"/>
            <a:ext cx="457200" cy="304920"/>
            <a:chOff x="3510000" y="8039160"/>
            <a:chExt cx="457200" cy="304920"/>
          </a:xfrm>
        </p:grpSpPr>
        <p:sp>
          <p:nvSpPr>
            <p:cNvPr id="152" name=""/>
            <p:cNvSpPr/>
            <p:nvPr/>
          </p:nvSpPr>
          <p:spPr>
            <a:xfrm>
              <a:off x="3548160" y="80391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10000" y="8055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4" name=""/>
          <p:cNvCxnSpPr>
            <a:stCxn id="139" idx="2"/>
            <a:endCxn id="143" idx="0"/>
          </p:cNvCxnSpPr>
          <p:nvPr/>
        </p:nvCxnSpPr>
        <p:spPr>
          <a:xfrm>
            <a:off x="3428640" y="6620040"/>
            <a:ext cx="1080" cy="405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2" idx="2"/>
            <a:endCxn id="128" idx="2"/>
          </p:cNvCxnSpPr>
          <p:nvPr/>
        </p:nvCxnSpPr>
        <p:spPr>
          <a:xfrm>
            <a:off x="3428640" y="7686360"/>
            <a:ext cx="1080" cy="69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56" name=""/>
          <p:cNvGrpSpPr/>
          <p:nvPr/>
        </p:nvGrpSpPr>
        <p:grpSpPr>
          <a:xfrm>
            <a:off x="4791240" y="5181480"/>
            <a:ext cx="1447560" cy="1524240"/>
            <a:chOff x="4791240" y="5181480"/>
            <a:chExt cx="1447560" cy="1524240"/>
          </a:xfrm>
        </p:grpSpPr>
        <p:sp>
          <p:nvSpPr>
            <p:cNvPr id="157" name=""/>
            <p:cNvSpPr/>
            <p:nvPr/>
          </p:nvSpPr>
          <p:spPr>
            <a:xfrm>
              <a:off x="4791240" y="5181480"/>
              <a:ext cx="1447560" cy="15242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67200" y="5303880"/>
              <a:ext cx="129492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ply for Apprentices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(Refer to 2.3 The Apprenticeship Pathwa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9" name=""/>
          <p:cNvCxnSpPr>
            <a:stCxn id="139" idx="3"/>
            <a:endCxn id="157" idx="1"/>
          </p:cNvCxnSpPr>
          <p:nvPr/>
        </p:nvCxnSpPr>
        <p:spPr>
          <a:xfrm>
            <a:off x="4495320" y="5934240"/>
            <a:ext cx="2962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1600200" y="39909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0000" y="5629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36" idx="1"/>
            <a:endCxn id="128" idx="2"/>
          </p:cNvCxnSpPr>
          <p:nvPr/>
        </p:nvCxnSpPr>
        <p:spPr>
          <a:xfrm flipH="1" flipV="1" rot="10800000">
            <a:off x="2361240" y="4257360"/>
            <a:ext cx="1067400" cy="4124880"/>
          </a:xfrm>
          <a:prstGeom prst="bentConnector4">
            <a:avLst>
              <a:gd name="adj1" fmla="val -105802"/>
              <a:gd name="adj2" fmla="val 907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3048120" y="8001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868680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4A6-F86E-4B4A-8ABE-C5410220822F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33520" y="1981080"/>
            <a:ext cx="5790960" cy="640080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2514600"/>
            <a:ext cx="2438640" cy="557280"/>
            <a:chOff x="2209680" y="2514600"/>
            <a:chExt cx="2438640" cy="557280"/>
          </a:xfrm>
        </p:grpSpPr>
        <p:sp>
          <p:nvSpPr>
            <p:cNvPr id="169" name=""/>
            <p:cNvSpPr/>
            <p:nvPr/>
          </p:nvSpPr>
          <p:spPr>
            <a:xfrm>
              <a:off x="2209680" y="2514600"/>
              <a:ext cx="2438640" cy="55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05080" y="256536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Apply for C of Q Examination (Fee: $1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581280" y="6934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362320" y="5641920"/>
            <a:ext cx="2133360" cy="1371600"/>
            <a:chOff x="2362320" y="5641920"/>
            <a:chExt cx="2133360" cy="1371600"/>
          </a:xfrm>
        </p:grpSpPr>
        <p:sp>
          <p:nvSpPr>
            <p:cNvPr id="173" name=""/>
            <p:cNvSpPr/>
            <p:nvPr/>
          </p:nvSpPr>
          <p:spPr>
            <a:xfrm>
              <a:off x="2362320" y="5641920"/>
              <a:ext cx="2133360" cy="13716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05040" y="6099120"/>
              <a:ext cx="1447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ed translator for C of Q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828800" y="6019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448080" y="2038320"/>
            <a:ext cx="457200" cy="304920"/>
            <a:chOff x="3448080" y="2038320"/>
            <a:chExt cx="457200" cy="304920"/>
          </a:xfrm>
        </p:grpSpPr>
        <p:sp>
          <p:nvSpPr>
            <p:cNvPr id="177" name=""/>
            <p:cNvSpPr/>
            <p:nvPr/>
          </p:nvSpPr>
          <p:spPr>
            <a:xfrm>
              <a:off x="3486240" y="203832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48080" y="20541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510000" y="8039160"/>
            <a:ext cx="457200" cy="304920"/>
            <a:chOff x="3510000" y="8039160"/>
            <a:chExt cx="457200" cy="304920"/>
          </a:xfrm>
        </p:grpSpPr>
        <p:sp>
          <p:nvSpPr>
            <p:cNvPr id="180" name=""/>
            <p:cNvSpPr/>
            <p:nvPr/>
          </p:nvSpPr>
          <p:spPr>
            <a:xfrm>
              <a:off x="3548160" y="803916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10000" y="80550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209680" y="3295800"/>
            <a:ext cx="2438640" cy="556920"/>
            <a:chOff x="2209680" y="3295800"/>
            <a:chExt cx="2438640" cy="556920"/>
          </a:xfrm>
        </p:grpSpPr>
        <p:sp>
          <p:nvSpPr>
            <p:cNvPr id="183" name=""/>
            <p:cNvSpPr/>
            <p:nvPr/>
          </p:nvSpPr>
          <p:spPr>
            <a:xfrm>
              <a:off x="2209680" y="329580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5080" y="334620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 Receive authorization to work in your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2209680" y="4859280"/>
            <a:ext cx="2438640" cy="556920"/>
            <a:chOff x="2209680" y="4859280"/>
            <a:chExt cx="2438640" cy="556920"/>
          </a:xfrm>
        </p:grpSpPr>
        <p:sp>
          <p:nvSpPr>
            <p:cNvPr id="186" name=""/>
            <p:cNvSpPr/>
            <p:nvPr/>
          </p:nvSpPr>
          <p:spPr>
            <a:xfrm>
              <a:off x="2209680" y="485928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05080" y="5000400"/>
              <a:ext cx="22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.  Prepare for Ex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09680" y="4078440"/>
            <a:ext cx="2438640" cy="556920"/>
            <a:chOff x="2209680" y="4078440"/>
            <a:chExt cx="2438640" cy="556920"/>
          </a:xfrm>
        </p:grpSpPr>
        <p:sp>
          <p:nvSpPr>
            <p:cNvPr id="189" name=""/>
            <p:cNvSpPr/>
            <p:nvPr/>
          </p:nvSpPr>
          <p:spPr>
            <a:xfrm>
              <a:off x="2209680" y="407844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305080" y="4219560"/>
              <a:ext cx="22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.  Search for employ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09680" y="7238880"/>
            <a:ext cx="2438640" cy="556920"/>
            <a:chOff x="2209680" y="7238880"/>
            <a:chExt cx="2438640" cy="556920"/>
          </a:xfrm>
        </p:grpSpPr>
        <p:sp>
          <p:nvSpPr>
            <p:cNvPr id="192" name=""/>
            <p:cNvSpPr/>
            <p:nvPr/>
          </p:nvSpPr>
          <p:spPr>
            <a:xfrm>
              <a:off x="2209680" y="723888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05080" y="7380000"/>
              <a:ext cx="224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.  Source Transla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4" name=""/>
          <p:cNvCxnSpPr>
            <a:stCxn id="166" idx="0"/>
            <a:endCxn id="170" idx="0"/>
          </p:cNvCxnSpPr>
          <p:nvPr/>
        </p:nvCxnSpPr>
        <p:spPr>
          <a:xfrm>
            <a:off x="3428640" y="1980720"/>
            <a:ext cx="1080" cy="58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69" idx="2"/>
            <a:endCxn id="183" idx="0"/>
          </p:cNvCxnSpPr>
          <p:nvPr/>
        </p:nvCxnSpPr>
        <p:spPr>
          <a:xfrm>
            <a:off x="3428640" y="3071880"/>
            <a:ext cx="10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4" idx="2"/>
            <a:endCxn id="189" idx="0"/>
          </p:cNvCxnSpPr>
          <p:nvPr/>
        </p:nvCxnSpPr>
        <p:spPr>
          <a:xfrm>
            <a:off x="3428640" y="3803400"/>
            <a:ext cx="1080" cy="27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9" idx="2"/>
            <a:endCxn id="186" idx="0"/>
          </p:cNvCxnSpPr>
          <p:nvPr/>
        </p:nvCxnSpPr>
        <p:spPr>
          <a:xfrm>
            <a:off x="3428640" y="4635360"/>
            <a:ext cx="1080" cy="22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6" idx="2"/>
            <a:endCxn id="173" idx="0"/>
          </p:cNvCxnSpPr>
          <p:nvPr/>
        </p:nvCxnSpPr>
        <p:spPr>
          <a:xfrm>
            <a:off x="3428640" y="541656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73" idx="2"/>
            <a:endCxn id="192" idx="0"/>
          </p:cNvCxnSpPr>
          <p:nvPr/>
        </p:nvCxnSpPr>
        <p:spPr>
          <a:xfrm>
            <a:off x="3428640" y="7013520"/>
            <a:ext cx="108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2"/>
            <a:endCxn id="166" idx="2"/>
          </p:cNvCxnSpPr>
          <p:nvPr/>
        </p:nvCxnSpPr>
        <p:spPr>
          <a:xfrm>
            <a:off x="3428640" y="779580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73" idx="1"/>
            <a:endCxn id="166" idx="2"/>
          </p:cNvCxnSpPr>
          <p:nvPr/>
        </p:nvCxnSpPr>
        <p:spPr>
          <a:xfrm flipH="1" flipV="1" rot="10800000">
            <a:off x="2361240" y="6327360"/>
            <a:ext cx="1067400" cy="2054880"/>
          </a:xfrm>
          <a:prstGeom prst="bentConnector4">
            <a:avLst>
              <a:gd name="adj1" fmla="val -107118"/>
              <a:gd name="adj2" fmla="val 863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3124080" y="81057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6200000">
            <a:off x="3217320" y="-1166760"/>
            <a:ext cx="454680" cy="57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Temporary Certification Preparation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C2B8-310C-4E37-97F7-B36B103597AB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533520" y="1676520"/>
            <a:ext cx="5790960" cy="670536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3194280" y="-1162800"/>
            <a:ext cx="45468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Trade Certif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72080" y="7238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76440" y="80391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098880" y="1701720"/>
            <a:ext cx="457200" cy="304920"/>
            <a:chOff x="3098880" y="1701720"/>
            <a:chExt cx="457200" cy="304920"/>
          </a:xfrm>
        </p:grpSpPr>
        <p:sp>
          <p:nvSpPr>
            <p:cNvPr id="211" name=""/>
            <p:cNvSpPr/>
            <p:nvPr/>
          </p:nvSpPr>
          <p:spPr>
            <a:xfrm>
              <a:off x="3137040" y="170172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98880" y="171756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048120" y="8077320"/>
            <a:ext cx="457200" cy="304560"/>
            <a:chOff x="3048120" y="8077320"/>
            <a:chExt cx="457200" cy="304560"/>
          </a:xfrm>
        </p:grpSpPr>
        <p:sp>
          <p:nvSpPr>
            <p:cNvPr id="214" name=""/>
            <p:cNvSpPr/>
            <p:nvPr/>
          </p:nvSpPr>
          <p:spPr>
            <a:xfrm>
              <a:off x="3086280" y="8077320"/>
              <a:ext cx="342720" cy="30456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48120" y="80928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708200" y="4222800"/>
            <a:ext cx="2438280" cy="557280"/>
            <a:chOff x="1708200" y="4222800"/>
            <a:chExt cx="2438280" cy="557280"/>
          </a:xfrm>
        </p:grpSpPr>
        <p:sp>
          <p:nvSpPr>
            <p:cNvPr id="217" name=""/>
            <p:cNvSpPr/>
            <p:nvPr/>
          </p:nvSpPr>
          <p:spPr>
            <a:xfrm>
              <a:off x="1708200" y="4222800"/>
              <a:ext cx="2438280" cy="55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3240" y="4273560"/>
              <a:ext cx="224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.  Determine your improvement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708200" y="5842080"/>
            <a:ext cx="2438280" cy="838080"/>
            <a:chOff x="1708200" y="5842080"/>
            <a:chExt cx="2438280" cy="838080"/>
          </a:xfrm>
        </p:grpSpPr>
        <p:sp>
          <p:nvSpPr>
            <p:cNvPr id="220" name=""/>
            <p:cNvSpPr/>
            <p:nvPr/>
          </p:nvSpPr>
          <p:spPr>
            <a:xfrm>
              <a:off x="1708200" y="5842080"/>
              <a:ext cx="2438280" cy="8380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803240" y="5942160"/>
              <a:ext cx="2247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.  Write 2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nd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C of Q Exam (after a minimum of 15 days from 1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Arial"/>
                </a:rPr>
                <a:t>st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Exam, Fee: $1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708200" y="2057400"/>
            <a:ext cx="2438280" cy="556920"/>
            <a:chOff x="1708200" y="2057400"/>
            <a:chExt cx="2438280" cy="556920"/>
          </a:xfrm>
        </p:grpSpPr>
        <p:sp>
          <p:nvSpPr>
            <p:cNvPr id="223" name=""/>
            <p:cNvSpPr/>
            <p:nvPr/>
          </p:nvSpPr>
          <p:spPr>
            <a:xfrm>
              <a:off x="1708200" y="2057400"/>
              <a:ext cx="243828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03240" y="2198520"/>
              <a:ext cx="224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.  Write C of Q Ex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11320" y="2867040"/>
            <a:ext cx="1831680" cy="1103400"/>
            <a:chOff x="2011320" y="2867040"/>
            <a:chExt cx="1831680" cy="1103400"/>
          </a:xfrm>
        </p:grpSpPr>
        <p:sp>
          <p:nvSpPr>
            <p:cNvPr id="226" name=""/>
            <p:cNvSpPr/>
            <p:nvPr/>
          </p:nvSpPr>
          <p:spPr>
            <a:xfrm>
              <a:off x="2011320" y="286704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03200" y="316548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ed first attempt at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708200" y="5032440"/>
            <a:ext cx="2438280" cy="557280"/>
            <a:chOff x="1708200" y="5032440"/>
            <a:chExt cx="2438280" cy="557280"/>
          </a:xfrm>
        </p:grpSpPr>
        <p:sp>
          <p:nvSpPr>
            <p:cNvPr id="229" name=""/>
            <p:cNvSpPr/>
            <p:nvPr/>
          </p:nvSpPr>
          <p:spPr>
            <a:xfrm>
              <a:off x="1708200" y="5032440"/>
              <a:ext cx="2438280" cy="557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03240" y="5083200"/>
              <a:ext cx="2247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.  Complete work on your improvement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241880" y="3165480"/>
            <a:ext cx="1980720" cy="533520"/>
            <a:chOff x="4241880" y="3165480"/>
            <a:chExt cx="1980720" cy="533520"/>
          </a:xfrm>
        </p:grpSpPr>
        <p:sp>
          <p:nvSpPr>
            <p:cNvPr id="232" name=""/>
            <p:cNvSpPr/>
            <p:nvPr/>
          </p:nvSpPr>
          <p:spPr>
            <a:xfrm>
              <a:off x="4241880" y="3165480"/>
              <a:ext cx="1980720" cy="5335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46280" y="320832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011320" y="6934320"/>
            <a:ext cx="1831680" cy="1103040"/>
            <a:chOff x="2011320" y="6934320"/>
            <a:chExt cx="1831680" cy="1103040"/>
          </a:xfrm>
        </p:grpSpPr>
        <p:sp>
          <p:nvSpPr>
            <p:cNvPr id="235" name=""/>
            <p:cNvSpPr/>
            <p:nvPr/>
          </p:nvSpPr>
          <p:spPr>
            <a:xfrm>
              <a:off x="2011320" y="6934320"/>
              <a:ext cx="1831680" cy="11030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03200" y="72324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ed second attempt at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97180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23" idx="2"/>
            <a:endCxn id="226" idx="0"/>
          </p:cNvCxnSpPr>
          <p:nvPr/>
        </p:nvCxnSpPr>
        <p:spPr>
          <a:xfrm flipV="1" rot="10800000">
            <a:off x="2926800" y="2614320"/>
            <a:ext cx="1080" cy="253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6" idx="2"/>
            <a:endCxn id="217" idx="0"/>
          </p:cNvCxnSpPr>
          <p:nvPr/>
        </p:nvCxnSpPr>
        <p:spPr>
          <a:xfrm>
            <a:off x="2927160" y="397008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2971800" y="3924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26" idx="3"/>
            <a:endCxn id="232" idx="1"/>
          </p:cNvCxnSpPr>
          <p:nvPr/>
        </p:nvCxnSpPr>
        <p:spPr>
          <a:xfrm>
            <a:off x="3843000" y="3419280"/>
            <a:ext cx="39924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3772080" y="3162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17" idx="2"/>
            <a:endCxn id="229" idx="0"/>
          </p:cNvCxnSpPr>
          <p:nvPr/>
        </p:nvCxnSpPr>
        <p:spPr>
          <a:xfrm>
            <a:off x="2927160" y="477972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29" idx="2"/>
            <a:endCxn id="220" idx="0"/>
          </p:cNvCxnSpPr>
          <p:nvPr/>
        </p:nvCxnSpPr>
        <p:spPr>
          <a:xfrm>
            <a:off x="2927160" y="5589360"/>
            <a:ext cx="10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0" idx="2"/>
            <a:endCxn id="235" idx="0"/>
          </p:cNvCxnSpPr>
          <p:nvPr/>
        </p:nvCxnSpPr>
        <p:spPr>
          <a:xfrm>
            <a:off x="2927160" y="6680160"/>
            <a:ext cx="1080" cy="25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2921040" y="801360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241880" y="7219800"/>
            <a:ext cx="1980720" cy="533520"/>
            <a:chOff x="4241880" y="7219800"/>
            <a:chExt cx="1980720" cy="533520"/>
          </a:xfrm>
        </p:grpSpPr>
        <p:sp>
          <p:nvSpPr>
            <p:cNvPr id="248" name=""/>
            <p:cNvSpPr/>
            <p:nvPr/>
          </p:nvSpPr>
          <p:spPr>
            <a:xfrm>
              <a:off x="4241880" y="7219800"/>
              <a:ext cx="1980720" cy="5335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46280" y="726264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" name=""/>
          <p:cNvCxnSpPr>
            <a:stCxn id="235" idx="3"/>
            <a:endCxn id="248" idx="1"/>
          </p:cNvCxnSpPr>
          <p:nvPr/>
        </p:nvCxnSpPr>
        <p:spPr>
          <a:xfrm>
            <a:off x="3843000" y="7486200"/>
            <a:ext cx="399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6310440" y="8840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3404-2B5C-4560-A20A-0AAB30D0793C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3520" y="1828800"/>
            <a:ext cx="5790960" cy="6553080"/>
          </a:xfrm>
          <a:prstGeom prst="rect">
            <a:avLst/>
          </a:prstGeom>
          <a:noFill/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2240" y="456840"/>
            <a:ext cx="54417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ertification Pathway Flowchar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3672000" y="5551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813040" y="2314440"/>
            <a:ext cx="457200" cy="304920"/>
            <a:chOff x="2813040" y="2314440"/>
            <a:chExt cx="457200" cy="304920"/>
          </a:xfrm>
        </p:grpSpPr>
        <p:sp>
          <p:nvSpPr>
            <p:cNvPr id="257" name=""/>
            <p:cNvSpPr/>
            <p:nvPr/>
          </p:nvSpPr>
          <p:spPr>
            <a:xfrm>
              <a:off x="2851200" y="231444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813040" y="2330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542960" y="4105440"/>
            <a:ext cx="2438640" cy="556920"/>
            <a:chOff x="1542960" y="4105440"/>
            <a:chExt cx="2438640" cy="556920"/>
          </a:xfrm>
        </p:grpSpPr>
        <p:sp>
          <p:nvSpPr>
            <p:cNvPr id="260" name=""/>
            <p:cNvSpPr/>
            <p:nvPr/>
          </p:nvSpPr>
          <p:spPr>
            <a:xfrm>
              <a:off x="1542960" y="4105440"/>
              <a:ext cx="2438640" cy="5569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38360" y="415584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. Write third C of Q Exam (Fee: $10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46440" y="5254560"/>
            <a:ext cx="1831680" cy="1103400"/>
            <a:chOff x="1846440" y="5254560"/>
            <a:chExt cx="1831680" cy="1103400"/>
          </a:xfrm>
        </p:grpSpPr>
        <p:sp>
          <p:nvSpPr>
            <p:cNvPr id="263" name=""/>
            <p:cNvSpPr/>
            <p:nvPr/>
          </p:nvSpPr>
          <p:spPr>
            <a:xfrm>
              <a:off x="1846440" y="525456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38320" y="55530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ed final attempt at exam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762280" y="22604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191120" y="5538960"/>
            <a:ext cx="1980720" cy="533160"/>
            <a:chOff x="4191120" y="5538960"/>
            <a:chExt cx="1980720" cy="533160"/>
          </a:xfrm>
        </p:grpSpPr>
        <p:sp>
          <p:nvSpPr>
            <p:cNvPr id="267" name=""/>
            <p:cNvSpPr/>
            <p:nvPr/>
          </p:nvSpPr>
          <p:spPr>
            <a:xfrm>
              <a:off x="4191120" y="5538960"/>
              <a:ext cx="1980720" cy="5331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95520" y="5581440"/>
              <a:ext cx="177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gratulations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9" name=""/>
          <p:cNvCxnSpPr>
            <a:stCxn id="263" idx="3"/>
            <a:endCxn id="267" idx="1"/>
          </p:cNvCxnSpPr>
          <p:nvPr/>
        </p:nvCxnSpPr>
        <p:spPr>
          <a:xfrm flipV="1">
            <a:off x="3677760" y="5804640"/>
            <a:ext cx="51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0" name=""/>
          <p:cNvGrpSpPr/>
          <p:nvPr/>
        </p:nvGrpSpPr>
        <p:grpSpPr>
          <a:xfrm>
            <a:off x="1542960" y="2793960"/>
            <a:ext cx="2438640" cy="609480"/>
            <a:chOff x="1542960" y="2793960"/>
            <a:chExt cx="2438640" cy="609480"/>
          </a:xfrm>
        </p:grpSpPr>
        <p:sp>
          <p:nvSpPr>
            <p:cNvPr id="271" name=""/>
            <p:cNvSpPr/>
            <p:nvPr/>
          </p:nvSpPr>
          <p:spPr>
            <a:xfrm>
              <a:off x="1542960" y="2793960"/>
              <a:ext cx="243864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38360" y="2881080"/>
              <a:ext cx="2247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. Work on improvement are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542960" y="6908760"/>
            <a:ext cx="2438280" cy="990720"/>
            <a:chOff x="1542960" y="6908760"/>
            <a:chExt cx="2438280" cy="990720"/>
          </a:xfrm>
        </p:grpSpPr>
        <p:sp>
          <p:nvSpPr>
            <p:cNvPr id="274" name=""/>
            <p:cNvSpPr/>
            <p:nvPr/>
          </p:nvSpPr>
          <p:spPr>
            <a:xfrm>
              <a:off x="1542960" y="6908760"/>
              <a:ext cx="2438280" cy="9907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71480" y="6989040"/>
              <a:ext cx="2181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.  MTCU Reassessment Explore options/training programs with 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76" name=""/>
          <p:cNvCxnSpPr>
            <a:stCxn id="271" idx="2"/>
            <a:endCxn id="261" idx="0"/>
          </p:cNvCxnSpPr>
          <p:nvPr/>
        </p:nvCxnSpPr>
        <p:spPr>
          <a:xfrm>
            <a:off x="2761920" y="3403080"/>
            <a:ext cx="1080" cy="75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2357280" y="6527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63" idx="2"/>
            <a:endCxn id="274" idx="0"/>
          </p:cNvCxnSpPr>
          <p:nvPr/>
        </p:nvCxnSpPr>
        <p:spPr>
          <a:xfrm>
            <a:off x="2761920" y="6357960"/>
            <a:ext cx="1080" cy="551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 rot="16200000">
            <a:off x="3232440" y="-1163880"/>
            <a:ext cx="45468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Trade Certification Preparation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0440" y="8840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61" idx="2"/>
            <a:endCxn id="263" idx="0"/>
          </p:cNvCxnSpPr>
          <p:nvPr/>
        </p:nvCxnSpPr>
        <p:spPr>
          <a:xfrm flipV="1" rot="10800000">
            <a:off x="2761560" y="4613040"/>
            <a:ext cx="108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tification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4438-5F2A-4854-9897-8024BA8D655D}" type="slidenum">
              <a:t>5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FTPT</cp:lastModifiedBy>
  <dcterms:modified xsi:type="dcterms:W3CDTF">2005-08-04T15:26:04Z</dcterms:modified>
  <cp:revision>138</cp:revision>
  <dc:subject/>
  <dc:title>Newcomers Connecting to Trades Apprenticeship Resources (NeCTAR)</dc:title>
</cp:coreProperties>
</file>