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6858000" cy="9144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715F-B393-47F7-975B-90C614D79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611496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080" y="5172480"/>
            <a:ext cx="611496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A8A1-08DE-49EE-8F40-72A7CD283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43080" y="517248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476880" y="517248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173B-D85C-47F6-BE9C-6B49723B4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410920" y="182880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478400" y="182880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3080" y="517248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2410920" y="517248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4478400" y="517248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C6E5-C90E-47CB-AAF9-6B7623522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CEE29C-4CD9-41B2-8324-361001EC96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43080" y="1828800"/>
            <a:ext cx="611496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48D650-EB58-4E8C-845B-7D33A4018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6114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D15857-AD27-47CA-A120-A7A0D1A5A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ED29A9-4D0F-4603-A2FB-FCC59BA5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0B35EB-7263-4D7F-BA85-DCF89EFC8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092240" y="19080"/>
            <a:ext cx="5441760" cy="48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AB5580-53FA-4D16-9FFA-1E9779BF0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43080" y="517248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A6171B-5D00-4D34-A931-16EE1A24E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43080" y="1828800"/>
            <a:ext cx="611496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51C5-4AA0-4A79-A9EE-260375D09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476880" y="517248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B959CE-2142-4837-B5B9-0FBAAD3C7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43080" y="5172480"/>
            <a:ext cx="611496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706463-157F-42BF-9BAC-A0E296655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611496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3080" y="5172480"/>
            <a:ext cx="611496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F692BA-6DAD-4B66-AF79-FBFA81546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43080" y="517248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476880" y="517248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05AB89-DD63-4B3B-A186-064178DC0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2410920" y="182880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478400" y="182880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43080" y="517248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2410920" y="517248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4478400" y="517248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25415D-DA4B-4F85-B1FE-64436FBDCE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6114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C4D8-AD13-4821-B82E-4312E5EAD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622E-94C0-4E28-A05F-02AE76F4A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CCFB-F666-4F2A-A851-8FC3DC627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92240" y="19080"/>
            <a:ext cx="5441760" cy="48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B843-9133-4856-8519-E5835D1F2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3080" y="517248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9B08-4C54-421B-93F5-5324F81D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476880" y="517248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3544-F2A2-47A4-B52B-F5DA06FE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3080" y="5172480"/>
            <a:ext cx="611496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4F12-0628-4D72-AB05-83FFEC01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6320" y="117360"/>
            <a:ext cx="1294920" cy="1295640"/>
            <a:chOff x="76320" y="117360"/>
            <a:chExt cx="1294920" cy="1295640"/>
          </a:xfrm>
        </p:grpSpPr>
        <p:sp>
          <p:nvSpPr>
            <p:cNvPr id="1" name=""/>
            <p:cNvSpPr/>
            <p:nvPr/>
          </p:nvSpPr>
          <p:spPr>
            <a:xfrm>
              <a:off x="401760" y="250560"/>
              <a:ext cx="491760" cy="58320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31600" y="250560"/>
              <a:ext cx="367920" cy="583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41800" y="769320"/>
              <a:ext cx="472320" cy="5850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57960" y="769320"/>
              <a:ext cx="413280" cy="585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6320" y="680040"/>
              <a:ext cx="629280" cy="52020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89120" y="117360"/>
              <a:ext cx="35280" cy="1295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331920" y="1063800"/>
            <a:ext cx="6170400" cy="4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343080" y="1828800"/>
            <a:ext cx="6114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171000" y="8432640"/>
            <a:ext cx="125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609120" y="8383320"/>
            <a:ext cx="5791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&lt;footer&gt;</a:t>
            </a: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Newcomers Connecting to Trades Apprenticeship Re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(NeCTA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5600880" y="8432640"/>
            <a:ext cx="1118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28F60-0209-4163-B06E-A9DA24657B9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251160"/>
            <a:ext cx="6756120" cy="1402920"/>
            <a:chOff x="0" y="3251160"/>
            <a:chExt cx="6756120" cy="1402920"/>
          </a:xfrm>
        </p:grpSpPr>
        <p:grpSp>
          <p:nvGrpSpPr>
            <p:cNvPr id="50" name=""/>
            <p:cNvGrpSpPr/>
            <p:nvPr/>
          </p:nvGrpSpPr>
          <p:grpSpPr>
            <a:xfrm>
              <a:off x="217800" y="3394800"/>
              <a:ext cx="532800" cy="632880"/>
              <a:chOff x="217800" y="3394800"/>
              <a:chExt cx="532800" cy="632880"/>
            </a:xfrm>
          </p:grpSpPr>
          <p:sp>
            <p:nvSpPr>
              <p:cNvPr id="51" name=""/>
              <p:cNvSpPr/>
              <p:nvPr/>
            </p:nvSpPr>
            <p:spPr>
              <a:xfrm>
                <a:off x="217800" y="3394800"/>
                <a:ext cx="327960" cy="6328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04720" y="3394800"/>
                <a:ext cx="245880" cy="632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310680" y="3957840"/>
              <a:ext cx="552960" cy="632880"/>
              <a:chOff x="310680" y="3957840"/>
              <a:chExt cx="552960" cy="632880"/>
            </a:xfrm>
          </p:grpSpPr>
          <p:sp>
            <p:nvSpPr>
              <p:cNvPr id="54" name=""/>
              <p:cNvSpPr/>
              <p:nvPr/>
            </p:nvSpPr>
            <p:spPr>
              <a:xfrm>
                <a:off x="310680" y="3957840"/>
                <a:ext cx="316080" cy="6328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587160" y="3957840"/>
                <a:ext cx="276480" cy="632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3860280"/>
              <a:ext cx="420120" cy="5626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75920" y="3251160"/>
              <a:ext cx="23400" cy="140292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236880" y="4346280"/>
              <a:ext cx="6519240" cy="73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3040" y="243828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193320" y="8250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5"/>
          </p:nvPr>
        </p:nvSpPr>
        <p:spPr>
          <a:xfrm>
            <a:off x="5600880" y="8229240"/>
            <a:ext cx="113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5CDF6-B49F-4FF5-95C4-985783B5E30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8191440"/>
            <a:ext cx="51051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Newcomers Connecting to Trades Apprenticeship Re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(NeCTA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184480" y="802656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1676520"/>
            <a:ext cx="5790960" cy="670536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3240" y="19080"/>
            <a:ext cx="544212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he Certification Pathway: Service Provider Intervention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3157920" y="-1028880"/>
            <a:ext cx="454680" cy="47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I.  MTCU Assessment Prepar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960480" y="1727280"/>
            <a:ext cx="2447640" cy="685800"/>
            <a:chOff x="960480" y="1727280"/>
            <a:chExt cx="2447640" cy="685800"/>
          </a:xfrm>
        </p:grpSpPr>
        <p:sp>
          <p:nvSpPr>
            <p:cNvPr id="104" name=""/>
            <p:cNvSpPr/>
            <p:nvPr/>
          </p:nvSpPr>
          <p:spPr>
            <a:xfrm>
              <a:off x="960480" y="1727280"/>
              <a:ext cx="2447640" cy="68580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27960" y="1841760"/>
              <a:ext cx="1912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.  Review Document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690560" y="52243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268280" y="2733840"/>
            <a:ext cx="1831680" cy="1103040"/>
            <a:chOff x="1268280" y="2733840"/>
            <a:chExt cx="1831680" cy="1103040"/>
          </a:xfrm>
        </p:grpSpPr>
        <p:sp>
          <p:nvSpPr>
            <p:cNvPr id="108" name=""/>
            <p:cNvSpPr/>
            <p:nvPr/>
          </p:nvSpPr>
          <p:spPr>
            <a:xfrm>
              <a:off x="1268280" y="2733840"/>
              <a:ext cx="1831680" cy="110304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460160" y="3031920"/>
              <a:ext cx="1447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ocuments in English or French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3809880" y="4317840"/>
            <a:ext cx="2133720" cy="762120"/>
            <a:chOff x="3809880" y="4317840"/>
            <a:chExt cx="2133720" cy="762120"/>
          </a:xfrm>
        </p:grpSpPr>
        <p:sp>
          <p:nvSpPr>
            <p:cNvPr id="111" name=""/>
            <p:cNvSpPr/>
            <p:nvPr/>
          </p:nvSpPr>
          <p:spPr>
            <a:xfrm>
              <a:off x="3809880" y="4317840"/>
              <a:ext cx="2133720" cy="76212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81520" y="4467240"/>
              <a:ext cx="1993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vise on obtaining document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1268280" y="4143240"/>
            <a:ext cx="1831680" cy="1103400"/>
            <a:chOff x="1268280" y="4143240"/>
            <a:chExt cx="1831680" cy="1103400"/>
          </a:xfrm>
        </p:grpSpPr>
        <p:sp>
          <p:nvSpPr>
            <p:cNvPr id="114" name=""/>
            <p:cNvSpPr/>
            <p:nvPr/>
          </p:nvSpPr>
          <p:spPr>
            <a:xfrm>
              <a:off x="1268280" y="4143240"/>
              <a:ext cx="1831680" cy="110340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460160" y="4441680"/>
              <a:ext cx="1447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as complete documentation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3886200" y="2943360"/>
            <a:ext cx="2057400" cy="685800"/>
            <a:chOff x="3886200" y="2943360"/>
            <a:chExt cx="2057400" cy="685800"/>
          </a:xfrm>
        </p:grpSpPr>
        <p:sp>
          <p:nvSpPr>
            <p:cNvPr id="117" name=""/>
            <p:cNvSpPr/>
            <p:nvPr/>
          </p:nvSpPr>
          <p:spPr>
            <a:xfrm>
              <a:off x="3886200" y="2943360"/>
              <a:ext cx="2057400" cy="68580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113360" y="3146400"/>
              <a:ext cx="1606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fer to Transla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19" name=""/>
          <p:cNvCxnSpPr>
            <a:stCxn id="108" idx="3"/>
            <a:endCxn id="117" idx="1"/>
          </p:cNvCxnSpPr>
          <p:nvPr/>
        </p:nvCxnSpPr>
        <p:spPr>
          <a:xfrm>
            <a:off x="3099960" y="3285360"/>
            <a:ext cx="786600" cy="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20" name=""/>
          <p:cNvGrpSpPr/>
          <p:nvPr/>
        </p:nvGrpSpPr>
        <p:grpSpPr>
          <a:xfrm>
            <a:off x="927000" y="5638680"/>
            <a:ext cx="2514600" cy="971640"/>
            <a:chOff x="927000" y="5638680"/>
            <a:chExt cx="2514600" cy="971640"/>
          </a:xfrm>
        </p:grpSpPr>
        <p:sp>
          <p:nvSpPr>
            <p:cNvPr id="121" name=""/>
            <p:cNvSpPr/>
            <p:nvPr/>
          </p:nvSpPr>
          <p:spPr>
            <a:xfrm>
              <a:off x="927000" y="5638680"/>
              <a:ext cx="2514600" cy="91440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27000" y="5786280"/>
              <a:ext cx="25146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.  Provide Certification Information and Administer Self-assessment Tools.             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1676520" y="38098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76720" y="30481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62320" y="446256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17" idx="3"/>
            <a:endCxn id="121" idx="3"/>
          </p:cNvCxnSpPr>
          <p:nvPr/>
        </p:nvCxnSpPr>
        <p:spPr>
          <a:xfrm flipH="1">
            <a:off x="3441600" y="3286440"/>
            <a:ext cx="2502360" cy="2809800"/>
          </a:xfrm>
          <a:prstGeom prst="bentConnector3">
            <a:avLst>
              <a:gd name="adj1" fmla="val -923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4876920" y="51055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344680" y="8067600"/>
            <a:ext cx="457200" cy="304920"/>
            <a:chOff x="2344680" y="8067600"/>
            <a:chExt cx="457200" cy="304920"/>
          </a:xfrm>
        </p:grpSpPr>
        <p:sp>
          <p:nvSpPr>
            <p:cNvPr id="129" name=""/>
            <p:cNvSpPr/>
            <p:nvPr/>
          </p:nvSpPr>
          <p:spPr>
            <a:xfrm>
              <a:off x="2382840" y="8067600"/>
              <a:ext cx="342720" cy="304920"/>
            </a:xfrm>
            <a:prstGeom prst="flowChart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344680" y="808344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I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927000" y="6978600"/>
            <a:ext cx="2514600" cy="1066680"/>
            <a:chOff x="927000" y="6978600"/>
            <a:chExt cx="2514600" cy="1066680"/>
          </a:xfrm>
        </p:grpSpPr>
        <p:sp>
          <p:nvSpPr>
            <p:cNvPr id="132" name=""/>
            <p:cNvSpPr/>
            <p:nvPr/>
          </p:nvSpPr>
          <p:spPr>
            <a:xfrm>
              <a:off x="927000" y="6978600"/>
              <a:ext cx="2514600" cy="10666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027080" y="7189920"/>
              <a:ext cx="23162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.  Refer to Apprenticeship Branch Office and coach on assessment interview.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34" name=""/>
          <p:cNvCxnSpPr>
            <a:stCxn id="104" idx="2"/>
            <a:endCxn id="108" idx="0"/>
          </p:cNvCxnSpPr>
          <p:nvPr/>
        </p:nvCxnSpPr>
        <p:spPr>
          <a:xfrm flipH="1">
            <a:off x="2184120" y="2413080"/>
            <a:ext cx="720" cy="321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08" idx="2"/>
            <a:endCxn id="114" idx="0"/>
          </p:cNvCxnSpPr>
          <p:nvPr/>
        </p:nvCxnSpPr>
        <p:spPr>
          <a:xfrm>
            <a:off x="2184120" y="3836880"/>
            <a:ext cx="36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"/>
          <p:cNvCxnSpPr>
            <a:stCxn id="114" idx="2"/>
            <a:endCxn id="121" idx="0"/>
          </p:cNvCxnSpPr>
          <p:nvPr/>
        </p:nvCxnSpPr>
        <p:spPr>
          <a:xfrm>
            <a:off x="2184120" y="5246640"/>
            <a:ext cx="720" cy="39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" name=""/>
          <p:cNvCxnSpPr>
            <a:stCxn id="121" idx="2"/>
            <a:endCxn id="132" idx="0"/>
          </p:cNvCxnSpPr>
          <p:nvPr/>
        </p:nvCxnSpPr>
        <p:spPr>
          <a:xfrm>
            <a:off x="2184480" y="6553080"/>
            <a:ext cx="360" cy="425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stCxn id="114" idx="3"/>
            <a:endCxn id="111" idx="1"/>
          </p:cNvCxnSpPr>
          <p:nvPr/>
        </p:nvCxnSpPr>
        <p:spPr>
          <a:xfrm>
            <a:off x="3099960" y="4695120"/>
            <a:ext cx="710280" cy="4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304920" y="8730720"/>
            <a:ext cx="350496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sources for Immigrant Serving Agency Sta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ertification Pathway Flowchart-Service Provider  Interven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725A-6DA6-479F-830D-4528A1481587}" type="slidenum">
              <a:t>1</a:t>
            </a:fld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486160" y="7846920"/>
            <a:ext cx="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1676520"/>
            <a:ext cx="5790960" cy="670536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63240" y="19080"/>
            <a:ext cx="544212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he Certification Pathway: Service Provider Intervention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 rot="16200000">
            <a:off x="3225600" y="-1176120"/>
            <a:ext cx="4546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II. Temporary  Certification Prepa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587680" y="7932600"/>
            <a:ext cx="457200" cy="304920"/>
            <a:chOff x="2587680" y="7932600"/>
            <a:chExt cx="457200" cy="304920"/>
          </a:xfrm>
        </p:grpSpPr>
        <p:sp>
          <p:nvSpPr>
            <p:cNvPr id="145" name=""/>
            <p:cNvSpPr/>
            <p:nvPr/>
          </p:nvSpPr>
          <p:spPr>
            <a:xfrm>
              <a:off x="2625840" y="7932600"/>
              <a:ext cx="342720" cy="304920"/>
            </a:xfrm>
            <a:prstGeom prst="flowChart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587680" y="794844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II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1073160" y="1755720"/>
            <a:ext cx="2806560" cy="1752480"/>
            <a:chOff x="1073160" y="1755720"/>
            <a:chExt cx="2806560" cy="1752480"/>
          </a:xfrm>
        </p:grpSpPr>
        <p:sp>
          <p:nvSpPr>
            <p:cNvPr id="148" name=""/>
            <p:cNvSpPr/>
            <p:nvPr/>
          </p:nvSpPr>
          <p:spPr>
            <a:xfrm>
              <a:off x="1073160" y="1755720"/>
              <a:ext cx="2806560" cy="175248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417320" y="2128680"/>
              <a:ext cx="213336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as client satisfied requirements of assessment interview, and received permission to challenge the C of Q Exam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4219560" y="2216160"/>
            <a:ext cx="1752480" cy="831600"/>
            <a:chOff x="4219560" y="2216160"/>
            <a:chExt cx="1752480" cy="831600"/>
          </a:xfrm>
        </p:grpSpPr>
        <p:sp>
          <p:nvSpPr>
            <p:cNvPr id="151" name=""/>
            <p:cNvSpPr/>
            <p:nvPr/>
          </p:nvSpPr>
          <p:spPr>
            <a:xfrm>
              <a:off x="4219560" y="2216160"/>
              <a:ext cx="1752480" cy="83160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1080" y="2354760"/>
              <a:ext cx="13690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fer to Apprenticeship Pathw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876240" y="3809880"/>
            <a:ext cx="3200400" cy="685800"/>
            <a:chOff x="876240" y="3809880"/>
            <a:chExt cx="3200400" cy="685800"/>
          </a:xfrm>
        </p:grpSpPr>
        <p:sp>
          <p:nvSpPr>
            <p:cNvPr id="154" name=""/>
            <p:cNvSpPr/>
            <p:nvPr/>
          </p:nvSpPr>
          <p:spPr>
            <a:xfrm>
              <a:off x="936720" y="3809880"/>
              <a:ext cx="3081240" cy="68580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76240" y="3851280"/>
              <a:ext cx="3200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.  Prepare C of Q exam preparation support, resource   and referral inform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1995480" y="575784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90800" y="237636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4343400" y="1676520"/>
            <a:ext cx="457200" cy="304560"/>
            <a:chOff x="4343400" y="1676520"/>
            <a:chExt cx="457200" cy="304560"/>
          </a:xfrm>
        </p:grpSpPr>
        <p:sp>
          <p:nvSpPr>
            <p:cNvPr id="159" name=""/>
            <p:cNvSpPr/>
            <p:nvPr/>
          </p:nvSpPr>
          <p:spPr>
            <a:xfrm>
              <a:off x="4381560" y="1676520"/>
              <a:ext cx="342720" cy="304560"/>
            </a:xfrm>
            <a:prstGeom prst="flowChart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169200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914400" y="6039000"/>
            <a:ext cx="3124080" cy="685800"/>
            <a:chOff x="914400" y="6039000"/>
            <a:chExt cx="3124080" cy="685800"/>
          </a:xfrm>
        </p:grpSpPr>
        <p:sp>
          <p:nvSpPr>
            <p:cNvPr id="162" name=""/>
            <p:cNvSpPr/>
            <p:nvPr/>
          </p:nvSpPr>
          <p:spPr>
            <a:xfrm>
              <a:off x="914400" y="6039000"/>
              <a:ext cx="3124080" cy="68580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084320" y="6156360"/>
              <a:ext cx="278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.  Coach client on job search and provide job development support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914400" y="7086600"/>
            <a:ext cx="3124080" cy="762120"/>
            <a:chOff x="914400" y="7086600"/>
            <a:chExt cx="3124080" cy="762120"/>
          </a:xfrm>
        </p:grpSpPr>
        <p:sp>
          <p:nvSpPr>
            <p:cNvPr id="165" name=""/>
            <p:cNvSpPr/>
            <p:nvPr/>
          </p:nvSpPr>
          <p:spPr>
            <a:xfrm>
              <a:off x="914400" y="7086600"/>
              <a:ext cx="3124080" cy="76212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084320" y="7132680"/>
              <a:ext cx="27842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.  Provide Trade-Specific Information and Referral, Health &amp; Safety, LMI &amp; Union Inform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1181160" y="4789440"/>
            <a:ext cx="2590920" cy="990720"/>
            <a:chOff x="1181160" y="4789440"/>
            <a:chExt cx="2590920" cy="990720"/>
          </a:xfrm>
        </p:grpSpPr>
        <p:sp>
          <p:nvSpPr>
            <p:cNvPr id="168" name=""/>
            <p:cNvSpPr/>
            <p:nvPr/>
          </p:nvSpPr>
          <p:spPr>
            <a:xfrm>
              <a:off x="1181160" y="4789440"/>
              <a:ext cx="2590920" cy="99072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424160" y="5022720"/>
              <a:ext cx="2133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as client received authorization to work in the trade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2023920" y="343836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038480" y="50292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48" idx="2"/>
            <a:endCxn id="155" idx="0"/>
          </p:cNvCxnSpPr>
          <p:nvPr/>
        </p:nvCxnSpPr>
        <p:spPr>
          <a:xfrm>
            <a:off x="2476080" y="3507840"/>
            <a:ext cx="108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48" idx="3"/>
            <a:endCxn id="151" idx="1"/>
          </p:cNvCxnSpPr>
          <p:nvPr/>
        </p:nvCxnSpPr>
        <p:spPr>
          <a:xfrm>
            <a:off x="3879720" y="2631600"/>
            <a:ext cx="34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54" idx="2"/>
            <a:endCxn id="168" idx="0"/>
          </p:cNvCxnSpPr>
          <p:nvPr/>
        </p:nvCxnSpPr>
        <p:spPr>
          <a:xfrm flipH="1">
            <a:off x="2475720" y="4495680"/>
            <a:ext cx="2520" cy="294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68" idx="2"/>
            <a:endCxn id="162" idx="0"/>
          </p:cNvCxnSpPr>
          <p:nvPr/>
        </p:nvCxnSpPr>
        <p:spPr>
          <a:xfrm>
            <a:off x="2476080" y="5779800"/>
            <a:ext cx="1080" cy="259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68" idx="3"/>
            <a:endCxn id="151" idx="2"/>
          </p:cNvCxnSpPr>
          <p:nvPr/>
        </p:nvCxnSpPr>
        <p:spPr>
          <a:xfrm flipV="1">
            <a:off x="3771720" y="3047400"/>
            <a:ext cx="1324440" cy="2237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stCxn id="162" idx="2"/>
            <a:endCxn id="165" idx="0"/>
          </p:cNvCxnSpPr>
          <p:nvPr/>
        </p:nvCxnSpPr>
        <p:spPr>
          <a:xfrm>
            <a:off x="2476080" y="6724440"/>
            <a:ext cx="108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8" name=""/>
          <p:cNvSpPr/>
          <p:nvPr/>
        </p:nvSpPr>
        <p:spPr>
          <a:xfrm>
            <a:off x="304920" y="8730720"/>
            <a:ext cx="350496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sources for Immigrant Serving Agency Sta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ertification Pathway Flowchart-Service Provider  Interven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3077-1FA6-4EE2-88FB-393033872FD6}" type="slidenum">
              <a:t>2</a:t>
            </a:fld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533520" y="1676520"/>
            <a:ext cx="5790960" cy="670536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3240" y="19080"/>
            <a:ext cx="544212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he Certification Pathway: Service Provider Intervention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 rot="16200000">
            <a:off x="3163680" y="-1042200"/>
            <a:ext cx="4546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III. Trade Certification Prepa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762120" y="5638680"/>
            <a:ext cx="1904760" cy="609480"/>
            <a:chOff x="762120" y="5638680"/>
            <a:chExt cx="1904760" cy="609480"/>
          </a:xfrm>
        </p:grpSpPr>
        <p:sp>
          <p:nvSpPr>
            <p:cNvPr id="183" name=""/>
            <p:cNvSpPr/>
            <p:nvPr/>
          </p:nvSpPr>
          <p:spPr>
            <a:xfrm>
              <a:off x="762120" y="5638680"/>
              <a:ext cx="1904760" cy="6094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49240" y="5744880"/>
              <a:ext cx="173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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ngratulations!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311640" y="1855800"/>
            <a:ext cx="2895480" cy="735120"/>
            <a:chOff x="3311640" y="1855800"/>
            <a:chExt cx="2895480" cy="735120"/>
          </a:xfrm>
        </p:grpSpPr>
        <p:sp>
          <p:nvSpPr>
            <p:cNvPr id="186" name=""/>
            <p:cNvSpPr/>
            <p:nvPr/>
          </p:nvSpPr>
          <p:spPr>
            <a:xfrm>
              <a:off x="3311640" y="1855800"/>
              <a:ext cx="2895480" cy="73512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311640" y="1905120"/>
              <a:ext cx="28954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b. Advise client to determine areas of improvement: can write exam again after a minimum of 15 days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1266840" y="33526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624040" y="22716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828800" y="1676520"/>
            <a:ext cx="457200" cy="304560"/>
            <a:chOff x="1828800" y="1676520"/>
            <a:chExt cx="457200" cy="304560"/>
          </a:xfrm>
        </p:grpSpPr>
        <p:sp>
          <p:nvSpPr>
            <p:cNvPr id="191" name=""/>
            <p:cNvSpPr/>
            <p:nvPr/>
          </p:nvSpPr>
          <p:spPr>
            <a:xfrm>
              <a:off x="1866960" y="1676520"/>
              <a:ext cx="342720" cy="304560"/>
            </a:xfrm>
            <a:prstGeom prst="flowChart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828800" y="169200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I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463920" y="4400640"/>
            <a:ext cx="2590560" cy="838080"/>
            <a:chOff x="3463920" y="4400640"/>
            <a:chExt cx="2590560" cy="838080"/>
          </a:xfrm>
        </p:grpSpPr>
        <p:sp>
          <p:nvSpPr>
            <p:cNvPr id="194" name=""/>
            <p:cNvSpPr/>
            <p:nvPr/>
          </p:nvSpPr>
          <p:spPr>
            <a:xfrm>
              <a:off x="3463920" y="4400640"/>
              <a:ext cx="2590560" cy="8380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605760" y="4496040"/>
              <a:ext cx="23068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b.  Advise client to work on improvement areas to  attempt a third exam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98480" y="1828800"/>
            <a:ext cx="1831680" cy="1447920"/>
            <a:chOff x="798480" y="1828800"/>
            <a:chExt cx="1831680" cy="1447920"/>
          </a:xfrm>
        </p:grpSpPr>
        <p:sp>
          <p:nvSpPr>
            <p:cNvPr id="197" name=""/>
            <p:cNvSpPr/>
            <p:nvPr/>
          </p:nvSpPr>
          <p:spPr>
            <a:xfrm>
              <a:off x="798480" y="1828800"/>
              <a:ext cx="1831680" cy="144792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019160" y="2098800"/>
              <a:ext cx="14475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as client passed 1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Arial"/>
                </a:rPr>
                <a:t>st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attempt at the C of Q Exam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685800" y="6705720"/>
            <a:ext cx="2057400" cy="914400"/>
            <a:chOff x="685800" y="6705720"/>
            <a:chExt cx="2057400" cy="914400"/>
          </a:xfrm>
        </p:grpSpPr>
        <p:sp>
          <p:nvSpPr>
            <p:cNvPr id="200" name=""/>
            <p:cNvSpPr/>
            <p:nvPr/>
          </p:nvSpPr>
          <p:spPr>
            <a:xfrm>
              <a:off x="685800" y="6705720"/>
              <a:ext cx="2057400" cy="91440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08120" y="6840360"/>
              <a:ext cx="2025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a.  Provide job-search coaching and job-develop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843360" y="2765520"/>
            <a:ext cx="1831680" cy="1447560"/>
            <a:chOff x="3843360" y="2765520"/>
            <a:chExt cx="1831680" cy="1447560"/>
          </a:xfrm>
        </p:grpSpPr>
        <p:sp>
          <p:nvSpPr>
            <p:cNvPr id="203" name=""/>
            <p:cNvSpPr/>
            <p:nvPr/>
          </p:nvSpPr>
          <p:spPr>
            <a:xfrm>
              <a:off x="3843360" y="2765520"/>
              <a:ext cx="1831680" cy="144756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064040" y="3035160"/>
              <a:ext cx="14475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as client passed 2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Arial"/>
                </a:rPr>
                <a:t>nd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attempt at the C of Q Exam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843360" y="5403960"/>
            <a:ext cx="1831680" cy="1447560"/>
            <a:chOff x="3843360" y="5403960"/>
            <a:chExt cx="1831680" cy="1447560"/>
          </a:xfrm>
        </p:grpSpPr>
        <p:sp>
          <p:nvSpPr>
            <p:cNvPr id="206" name=""/>
            <p:cNvSpPr/>
            <p:nvPr/>
          </p:nvSpPr>
          <p:spPr>
            <a:xfrm>
              <a:off x="3843360" y="5403960"/>
              <a:ext cx="1831680" cy="144756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064040" y="5673600"/>
              <a:ext cx="14475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as client passed 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Arial"/>
                </a:rPr>
                <a:t>rd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attempt at the C of Q Exam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3416400" y="7101000"/>
            <a:ext cx="2705040" cy="1168200"/>
            <a:chOff x="3416400" y="7101000"/>
            <a:chExt cx="2705040" cy="1168200"/>
          </a:xfrm>
        </p:grpSpPr>
        <p:sp>
          <p:nvSpPr>
            <p:cNvPr id="209" name=""/>
            <p:cNvSpPr/>
            <p:nvPr/>
          </p:nvSpPr>
          <p:spPr>
            <a:xfrm>
              <a:off x="3429000" y="7101000"/>
              <a:ext cx="2666880" cy="116820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416400" y="7201080"/>
              <a:ext cx="27050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9b.  Explore other options and related trades and provide information and referral.  Client  is REASSESSED at the branch office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1" name=""/>
          <p:cNvCxnSpPr>
            <a:stCxn id="197" idx="2"/>
            <a:endCxn id="183" idx="0"/>
          </p:cNvCxnSpPr>
          <p:nvPr/>
        </p:nvCxnSpPr>
        <p:spPr>
          <a:xfrm>
            <a:off x="1714320" y="3276360"/>
            <a:ext cx="1080" cy="236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"/>
          <p:cNvCxnSpPr>
            <a:stCxn id="183" idx="2"/>
            <a:endCxn id="200" idx="0"/>
          </p:cNvCxnSpPr>
          <p:nvPr/>
        </p:nvCxnSpPr>
        <p:spPr>
          <a:xfrm>
            <a:off x="1714320" y="624852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3" name=""/>
          <p:cNvCxnSpPr>
            <a:stCxn id="186" idx="2"/>
            <a:endCxn id="203" idx="0"/>
          </p:cNvCxnSpPr>
          <p:nvPr/>
        </p:nvCxnSpPr>
        <p:spPr>
          <a:xfrm>
            <a:off x="4758840" y="2590560"/>
            <a:ext cx="1080" cy="17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"/>
          <p:cNvCxnSpPr>
            <a:stCxn id="203" idx="2"/>
            <a:endCxn id="194" idx="0"/>
          </p:cNvCxnSpPr>
          <p:nvPr/>
        </p:nvCxnSpPr>
        <p:spPr>
          <a:xfrm>
            <a:off x="4758840" y="4212720"/>
            <a:ext cx="1080" cy="188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"/>
          <p:cNvCxnSpPr>
            <a:stCxn id="194" idx="2"/>
            <a:endCxn id="206" idx="0"/>
          </p:cNvCxnSpPr>
          <p:nvPr/>
        </p:nvCxnSpPr>
        <p:spPr>
          <a:xfrm>
            <a:off x="4758840" y="5238360"/>
            <a:ext cx="1080" cy="16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"/>
          <p:cNvCxnSpPr>
            <a:stCxn id="206" idx="2"/>
            <a:endCxn id="209" idx="0"/>
          </p:cNvCxnSpPr>
          <p:nvPr/>
        </p:nvCxnSpPr>
        <p:spPr>
          <a:xfrm>
            <a:off x="4758840" y="6851160"/>
            <a:ext cx="3960" cy="25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7" name=""/>
          <p:cNvSpPr/>
          <p:nvPr/>
        </p:nvSpPr>
        <p:spPr>
          <a:xfrm>
            <a:off x="4780080" y="41083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782960" y="68137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03" idx="1"/>
            <a:endCxn id="183" idx="3"/>
          </p:cNvCxnSpPr>
          <p:nvPr/>
        </p:nvCxnSpPr>
        <p:spPr>
          <a:xfrm flipV="1" rot="10800000">
            <a:off x="2666160" y="3488040"/>
            <a:ext cx="1177200" cy="2454480"/>
          </a:xfrm>
          <a:prstGeom prst="bentConnector3">
            <a:avLst>
              <a:gd name="adj1" fmla="val 4992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0" name=""/>
          <p:cNvCxnSpPr>
            <a:endCxn id="183" idx="3"/>
          </p:cNvCxnSpPr>
          <p:nvPr/>
        </p:nvCxnSpPr>
        <p:spPr>
          <a:xfrm rot="10800000">
            <a:off x="2666160" y="5942880"/>
            <a:ext cx="1177200" cy="200880"/>
          </a:xfrm>
          <a:prstGeom prst="bentConnector3">
            <a:avLst>
              <a:gd name="adj1" fmla="val 4992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1" name=""/>
          <p:cNvSpPr/>
          <p:nvPr/>
        </p:nvSpPr>
        <p:spPr>
          <a:xfrm>
            <a:off x="3378240" y="356724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71760" y="58831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3" name=""/>
          <p:cNvCxnSpPr>
            <a:stCxn id="197" idx="3"/>
            <a:endCxn id="187" idx="1"/>
          </p:cNvCxnSpPr>
          <p:nvPr/>
        </p:nvCxnSpPr>
        <p:spPr>
          <a:xfrm flipV="1">
            <a:off x="2630520" y="2224800"/>
            <a:ext cx="681840" cy="327960"/>
          </a:xfrm>
          <a:prstGeom prst="bentConnector3">
            <a:avLst>
              <a:gd name="adj1" fmla="val 4986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304920" y="8730720"/>
            <a:ext cx="342900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sources for Immigrant Serving Agency Sta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ertification Pathway Flowchart-Service Provider  Interven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2048-DD05-41B1-9DAF-FD59A6E7DF6F}" type="slidenum">
              <a:t>3</a:t>
            </a:fld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63240" y="19080"/>
            <a:ext cx="544212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he Certification Pathway: Service Provider Intervention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3354120" y="-843840"/>
            <a:ext cx="4546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NeCTAR TOOLS &amp;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60240" y="20574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60240" y="20574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60240" y="2063880"/>
            <a:ext cx="648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60240" y="23130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66720" y="2313000"/>
            <a:ext cx="6825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49280" y="23130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355760" y="2313000"/>
            <a:ext cx="48830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238800" y="23130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60240" y="2319480"/>
            <a:ext cx="648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349280" y="2319480"/>
            <a:ext cx="648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60240" y="256860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49280" y="256860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355760" y="2568600"/>
            <a:ext cx="519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74880" y="256860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881360" y="2568600"/>
            <a:ext cx="43574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38800" y="256860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60240" y="2573280"/>
            <a:ext cx="648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349280" y="2573280"/>
            <a:ext cx="648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874880" y="2573280"/>
            <a:ext cx="648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0240" y="28224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349280" y="28224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874880" y="28224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238800" y="28224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0240" y="2828880"/>
            <a:ext cx="6480" cy="46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349280" y="2828880"/>
            <a:ext cx="6480" cy="46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874880" y="2828880"/>
            <a:ext cx="6480" cy="46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240" y="32907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349280" y="32907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874880" y="32907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81360" y="3290760"/>
            <a:ext cx="43574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238800" y="32907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60240" y="3297240"/>
            <a:ext cx="648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49280" y="3297240"/>
            <a:ext cx="648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874880" y="3297240"/>
            <a:ext cx="648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60240" y="35463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349280" y="35463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874880" y="35463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38800" y="35463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60240" y="3552840"/>
            <a:ext cx="648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349280" y="3552840"/>
            <a:ext cx="648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874880" y="3552840"/>
            <a:ext cx="648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60240" y="38019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349280" y="38019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355760" y="3801960"/>
            <a:ext cx="519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874880" y="38019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881360" y="3801960"/>
            <a:ext cx="43574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238800" y="38019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60240" y="3808440"/>
            <a:ext cx="6480" cy="42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349280" y="3808440"/>
            <a:ext cx="6480" cy="42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6024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34928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355760" y="4230720"/>
            <a:ext cx="519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87488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881360" y="4230720"/>
            <a:ext cx="43574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388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60240" y="4237200"/>
            <a:ext cx="6480" cy="32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349280" y="4237200"/>
            <a:ext cx="6480" cy="32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74880" y="4237200"/>
            <a:ext cx="6480" cy="32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60240" y="45608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349280" y="45608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874880" y="45608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238800" y="45608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60240" y="4567320"/>
            <a:ext cx="6480" cy="241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349280" y="4567320"/>
            <a:ext cx="6480" cy="241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874880" y="4567320"/>
            <a:ext cx="6480" cy="2415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0240" y="69832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349280" y="69832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874880" y="69832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881360" y="6983280"/>
            <a:ext cx="43574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238800" y="69832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60240" y="6989760"/>
            <a:ext cx="648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349280" y="6989760"/>
            <a:ext cx="648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874880" y="6989760"/>
            <a:ext cx="648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60240" y="7238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349280" y="7238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874880" y="7238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38800" y="7238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60240" y="7245360"/>
            <a:ext cx="6480" cy="84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60240" y="809316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60240" y="809316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349280" y="7245360"/>
            <a:ext cx="6480" cy="84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349280" y="809316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874880" y="7245360"/>
            <a:ext cx="6480" cy="84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874880" y="809316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666720" y="2057400"/>
            <a:ext cx="5587560" cy="6223320"/>
            <a:chOff x="666720" y="2057400"/>
            <a:chExt cx="5587560" cy="6223320"/>
          </a:xfrm>
        </p:grpSpPr>
        <p:sp>
          <p:nvSpPr>
            <p:cNvPr id="312" name=""/>
            <p:cNvSpPr/>
            <p:nvPr/>
          </p:nvSpPr>
          <p:spPr>
            <a:xfrm>
              <a:off x="757800" y="2100240"/>
              <a:ext cx="336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rvention I:  MTCU Assessment Prepar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102560" y="2100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66720" y="2057400"/>
              <a:ext cx="55720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238800" y="205740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238800" y="205740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238800" y="206388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453680" y="2354400"/>
              <a:ext cx="2274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ep 1:  Review Document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713400" y="23544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238800" y="231948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027160" y="2611440"/>
              <a:ext cx="1117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NeCTAR Tool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134160" y="2611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38800" y="257328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226600" y="2870280"/>
              <a:ext cx="2311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ertification Pathway Flowch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524120" y="28702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570200" y="2870280"/>
              <a:ext cx="1121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rvice Provid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682600" y="2870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231280" y="3081240"/>
              <a:ext cx="1861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cumentation Check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082400" y="3081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238800" y="2828880"/>
              <a:ext cx="6480" cy="461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976040" y="3335400"/>
              <a:ext cx="198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Service Delivery Initiative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945960" y="3338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238800" y="329724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453680" y="26146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975320" y="3594240"/>
              <a:ext cx="689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dividual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59680" y="3594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737800" y="3594240"/>
              <a:ext cx="1634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sure appropriate do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363560" y="3594240"/>
              <a:ext cx="758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ment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119200" y="3594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238800" y="355284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450080" y="3843360"/>
              <a:ext cx="480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ep 2:  Provide Certification Process Information and Administer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069280" y="4017960"/>
              <a:ext cx="28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l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347920" y="40179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390760" y="4017960"/>
              <a:ext cx="1351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ssessment Too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731040" y="4017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238800" y="3808440"/>
              <a:ext cx="6480" cy="422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027160" y="4311720"/>
              <a:ext cx="1117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NeCTAR Tool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134160" y="4311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238800" y="4237200"/>
              <a:ext cx="6480" cy="323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28040" y="4646520"/>
              <a:ext cx="2346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des Apprenticeship Glossa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561920" y="4646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223000" y="4896000"/>
              <a:ext cx="3853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esentation Slides:  Trades Apprenticeship in Ontar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059160" y="4896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227680" y="5145120"/>
              <a:ext cx="210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ulation of the Apprent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316040" y="5145120"/>
              <a:ext cx="191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hip Trades and the Trade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473920" y="5318280"/>
              <a:ext cx="884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signa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352320" y="5318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229840" y="5567400"/>
              <a:ext cx="1489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esentation Slid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713040" y="55674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755880" y="5567400"/>
              <a:ext cx="1436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ertification Pathw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185800" y="55674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226600" y="5816520"/>
              <a:ext cx="2311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ertification Pathway Flowch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524120" y="58165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73080" y="5816520"/>
              <a:ext cx="39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961880" y="5816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229120" y="6066000"/>
              <a:ext cx="1905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ertification Pathway Inf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25600" y="60660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72040" y="6066000"/>
              <a:ext cx="401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he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573080" y="6066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228040" y="6315120"/>
              <a:ext cx="2268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ertification Pathway Check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484160" y="6315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233800" y="656424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803320" y="65642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848320" y="6564240"/>
              <a:ext cx="2151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pecific Assessment Question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988160" y="6564240"/>
              <a:ext cx="25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i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241600" y="6564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233800" y="681372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803320" y="68137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851560" y="6813720"/>
              <a:ext cx="84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pecific Sel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690720" y="68137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738240" y="6813720"/>
              <a:ext cx="157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ssessment Checklis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298480" y="6813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238800" y="4567320"/>
              <a:ext cx="6480" cy="241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976040" y="7027920"/>
              <a:ext cx="198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Service Delivery Initiative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948480" y="7027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238800" y="698976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67160" y="23544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453680" y="4240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975320" y="7286760"/>
              <a:ext cx="689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dividual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659680" y="7286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736000" y="7286760"/>
              <a:ext cx="296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ssess client background, determine likely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964160" y="7459560"/>
              <a:ext cx="2783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thway, gaps in training and experie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731840" y="7459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977840" y="7670880"/>
              <a:ext cx="468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roup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442960" y="76708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490120" y="7670880"/>
              <a:ext cx="1395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formation Sess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879360" y="7670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972440" y="7881840"/>
              <a:ext cx="2907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ecoming a Certified Tradesperson in O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864680" y="7881840"/>
              <a:ext cx="30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rio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166720" y="78818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6720" y="8093160"/>
              <a:ext cx="6825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355760" y="8093160"/>
              <a:ext cx="519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881360" y="8093160"/>
              <a:ext cx="43574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38800" y="7245360"/>
              <a:ext cx="6480" cy="84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38800" y="8093160"/>
              <a:ext cx="64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38800" y="8093160"/>
              <a:ext cx="64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1400" y="80978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304920" y="8730720"/>
            <a:ext cx="350496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sources for Immigrant Serving Agency Sta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ertification Pathway Flowchart-Service Provider Interven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A259-139D-42B0-9446-933CDC6B4C73}" type="slidenum">
              <a:t>4</a:t>
            </a:fld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263240" y="19080"/>
            <a:ext cx="544212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he Certification Pathway: Service Provider Intervention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0" name=""/>
          <p:cNvSpPr/>
          <p:nvPr/>
        </p:nvSpPr>
        <p:spPr>
          <a:xfrm rot="16200000">
            <a:off x="3354120" y="-843840"/>
            <a:ext cx="4546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NeCTAR TOOLS &amp; RESOURCES (cont’d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879560" y="274320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879560" y="2749680"/>
            <a:ext cx="468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879560" y="299880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879560" y="3005280"/>
            <a:ext cx="468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879560" y="358128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879560" y="3587760"/>
            <a:ext cx="468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879560" y="383688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879560" y="3843360"/>
            <a:ext cx="468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879560" y="409248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660240" y="2057400"/>
            <a:ext cx="5585040" cy="2224440"/>
            <a:chOff x="660240" y="2057400"/>
            <a:chExt cx="5585040" cy="2224440"/>
          </a:xfrm>
        </p:grpSpPr>
        <p:sp>
          <p:nvSpPr>
            <p:cNvPr id="421" name=""/>
            <p:cNvSpPr/>
            <p:nvPr/>
          </p:nvSpPr>
          <p:spPr>
            <a:xfrm>
              <a:off x="758880" y="2100240"/>
              <a:ext cx="341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rvention I:  MTCU Assessment Preparatio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45760" y="2101680"/>
              <a:ext cx="601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(cont’d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740480" y="2100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60240" y="205740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60240" y="205740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66720" y="2057400"/>
              <a:ext cx="55720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238800" y="205740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238800" y="205740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60240" y="206388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238800" y="206388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451160" y="2355840"/>
              <a:ext cx="451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ep 3:  Provide Assessment Interview Coaching and Refer to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068560" y="2529000"/>
              <a:ext cx="192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TCU Local Branch Off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981960" y="2529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60240" y="231300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66720" y="2313000"/>
              <a:ext cx="68580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352520" y="231300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359000" y="2313000"/>
              <a:ext cx="487980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238800" y="231300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60240" y="2319480"/>
              <a:ext cx="6480" cy="42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52520" y="2319480"/>
              <a:ext cx="6480" cy="42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238800" y="2319480"/>
              <a:ext cx="6480" cy="42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986120" y="2786040"/>
              <a:ext cx="1117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NeCTAR Tool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092040" y="2789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60240" y="274320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52520" y="274320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359000" y="2743200"/>
              <a:ext cx="5205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884240" y="2743200"/>
              <a:ext cx="43545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238800" y="274320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60240" y="274968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352520" y="274968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238800" y="274968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238840" y="308304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808000" y="30830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847960" y="3083040"/>
              <a:ext cx="2797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pecific Certification Pathway Fact She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631840" y="30830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322720" y="3333600"/>
              <a:ext cx="185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orkplace Support Serv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169160" y="3333600"/>
              <a:ext cx="680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s Offic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844520" y="3333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60240" y="299880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352520" y="299880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238800" y="299880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60240" y="3005280"/>
              <a:ext cx="6480" cy="57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352520" y="3005280"/>
              <a:ext cx="6480" cy="57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238800" y="3005280"/>
              <a:ext cx="6480" cy="57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978920" y="3625920"/>
              <a:ext cx="198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Service Delivery Initiative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953160" y="3625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60240" y="358128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352520" y="358128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884240" y="3581280"/>
              <a:ext cx="43545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238800" y="358128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60240" y="358776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352520" y="358776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238800" y="358776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64640" y="2322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456920" y="2752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982160" y="3884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60240" y="383688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352520" y="383688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238800" y="383688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60240" y="384336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60240" y="409248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60240" y="409248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66720" y="4092480"/>
              <a:ext cx="68580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352520" y="384336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352520" y="409248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359000" y="4092480"/>
              <a:ext cx="5205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884240" y="4092480"/>
              <a:ext cx="43545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238800" y="384336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238800" y="409248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238800" y="409248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61400" y="4098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304920" y="8684640"/>
            <a:ext cx="342900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sources for Immigrant Serving Agency Sta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ertification Pathway Flowchart-Service Provider Interven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254A-54EF-49F6-B627-85A417169374}" type="slidenum">
              <a:t>5</a:t>
            </a:fld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3240" y="19080"/>
            <a:ext cx="544212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he Certification Pathway: Service Provider Intervention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4" name=""/>
          <p:cNvSpPr/>
          <p:nvPr/>
        </p:nvSpPr>
        <p:spPr>
          <a:xfrm rot="16200000">
            <a:off x="3354120" y="-843840"/>
            <a:ext cx="4546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NeCTAR TOOLS &amp; RESOURCES (cont’d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85800" y="274176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376280" y="274176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382760" y="2741760"/>
            <a:ext cx="522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905120" y="274176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909800" y="2741760"/>
            <a:ext cx="43545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264360" y="274176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905120" y="2747880"/>
            <a:ext cx="4680" cy="24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905120" y="2997360"/>
            <a:ext cx="4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905120" y="3003480"/>
            <a:ext cx="4680" cy="78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905120" y="379080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905120" y="3797280"/>
            <a:ext cx="468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85800" y="40464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376280" y="40464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905120" y="404640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264360" y="404640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905120" y="4052880"/>
            <a:ext cx="4680" cy="536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905120" y="4589640"/>
            <a:ext cx="46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905120" y="501804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905120" y="5024520"/>
            <a:ext cx="4680" cy="32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905120" y="534816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905120" y="5354640"/>
            <a:ext cx="4680" cy="325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905120" y="568008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905120" y="5686560"/>
            <a:ext cx="4680" cy="25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905120" y="593712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85800" y="6192720"/>
            <a:ext cx="64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85800" y="6192720"/>
            <a:ext cx="64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92280" y="6192720"/>
            <a:ext cx="68400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376280" y="6192720"/>
            <a:ext cx="64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382760" y="6192720"/>
            <a:ext cx="52236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905120" y="5943600"/>
            <a:ext cx="468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905120" y="6192720"/>
            <a:ext cx="46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909800" y="6192720"/>
            <a:ext cx="435456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264360" y="6192720"/>
            <a:ext cx="612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264360" y="6192720"/>
            <a:ext cx="612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685800" y="2057400"/>
            <a:ext cx="5598720" cy="4323240"/>
            <a:chOff x="685800" y="2057400"/>
            <a:chExt cx="5598720" cy="4323240"/>
          </a:xfrm>
        </p:grpSpPr>
        <p:sp>
          <p:nvSpPr>
            <p:cNvPr id="530" name=""/>
            <p:cNvSpPr/>
            <p:nvPr/>
          </p:nvSpPr>
          <p:spPr>
            <a:xfrm>
              <a:off x="785520" y="2100240"/>
              <a:ext cx="3751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rvention II:  Temporary Certification Prepar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507200" y="2100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85800" y="205740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85800" y="205740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92280" y="2057400"/>
              <a:ext cx="55720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264360" y="205740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264360" y="205740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85800" y="206388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264360" y="2063880"/>
              <a:ext cx="612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478520" y="2355840"/>
              <a:ext cx="4806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ep 4:  Provide C of Q  Exam Preparation Support, Resource and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095200" y="2529000"/>
              <a:ext cx="1459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ferral Inform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542040" y="2529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85800" y="231300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92280" y="2313000"/>
              <a:ext cx="68400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376280" y="231300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382760" y="2313000"/>
              <a:ext cx="488160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264360" y="231300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85800" y="2319480"/>
              <a:ext cx="6480" cy="422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376280" y="2319480"/>
              <a:ext cx="6480" cy="422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264360" y="2319480"/>
              <a:ext cx="6120" cy="422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057400" y="2786040"/>
              <a:ext cx="1117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NeCTAR Tool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164400" y="27860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85800" y="2747880"/>
              <a:ext cx="6480" cy="24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376280" y="2747880"/>
              <a:ext cx="6480" cy="24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264360" y="2747880"/>
              <a:ext cx="6120" cy="24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264040" y="3081240"/>
              <a:ext cx="52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90720" y="30812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833200" y="3081240"/>
              <a:ext cx="20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pecific Certification Pathway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877640" y="3081240"/>
              <a:ext cx="741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act She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614560" y="3081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345760" y="3332160"/>
              <a:ext cx="345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udy Guide for Certificate of Qualification Ex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779440" y="33321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350080" y="3581280"/>
              <a:ext cx="161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ebsite Resource 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958920" y="3581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85800" y="2997360"/>
              <a:ext cx="64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376280" y="2997360"/>
              <a:ext cx="64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264360" y="2997360"/>
              <a:ext cx="612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85800" y="3003480"/>
              <a:ext cx="6480" cy="78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376280" y="3003480"/>
              <a:ext cx="6480" cy="78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264360" y="3003480"/>
              <a:ext cx="6120" cy="78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004480" y="3835440"/>
              <a:ext cx="198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Service Delivery Initiative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976200" y="3836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85800" y="379080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376280" y="379080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09800" y="3790800"/>
              <a:ext cx="43545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264360" y="379080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85800" y="379728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376280" y="379728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264360" y="3797280"/>
              <a:ext cx="612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480680" y="2789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004120" y="4130640"/>
              <a:ext cx="689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dividual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689920" y="4130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766600" y="4130640"/>
              <a:ext cx="2507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 exam preparation resourc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60320" y="4130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006280" y="4379760"/>
              <a:ext cx="468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roup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472480" y="43797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552760" y="4379760"/>
              <a:ext cx="1335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am study grou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879360" y="4379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85800" y="4052880"/>
              <a:ext cx="6480" cy="536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376280" y="4052880"/>
              <a:ext cx="6480" cy="536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264360" y="4052880"/>
              <a:ext cx="6120" cy="536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479960" y="4630680"/>
              <a:ext cx="354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ep 5:  Coach Client on Job Search and Provi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995720" y="4630680"/>
              <a:ext cx="35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ob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095560" y="4805280"/>
              <a:ext cx="1585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velopment Suppo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664440" y="4805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85800" y="4589640"/>
              <a:ext cx="64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376280" y="4589640"/>
              <a:ext cx="64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382760" y="4589640"/>
              <a:ext cx="5223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909800" y="4589640"/>
              <a:ext cx="43545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264360" y="458964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85800" y="4594320"/>
              <a:ext cx="6480" cy="42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376280" y="4594320"/>
              <a:ext cx="6480" cy="42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264360" y="4594320"/>
              <a:ext cx="6120" cy="423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057400" y="5099040"/>
              <a:ext cx="1117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NeCTAR Tool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164400" y="50990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85800" y="501804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376280" y="501804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382760" y="5018040"/>
              <a:ext cx="5223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909800" y="5018040"/>
              <a:ext cx="43545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264360" y="501804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85800" y="5024520"/>
              <a:ext cx="6480" cy="323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376280" y="5024520"/>
              <a:ext cx="6480" cy="323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264360" y="5024520"/>
              <a:ext cx="6120" cy="323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347920" y="5433840"/>
              <a:ext cx="139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mployer Brochu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731760" y="54338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85800" y="534816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376280" y="534816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264360" y="534816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85800" y="5354640"/>
              <a:ext cx="6480" cy="32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376280" y="5354640"/>
              <a:ext cx="6480" cy="32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264360" y="5354640"/>
              <a:ext cx="6120" cy="32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004480" y="5724360"/>
              <a:ext cx="198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Service Delivery Initiative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978720" y="5724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85800" y="568008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376280" y="568008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909800" y="5680080"/>
              <a:ext cx="43545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264360" y="568008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85800" y="5686560"/>
              <a:ext cx="6480" cy="250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376280" y="5686560"/>
              <a:ext cx="6480" cy="250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264360" y="5686560"/>
              <a:ext cx="6120" cy="250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92360" y="23558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480680" y="5027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007720" y="5983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85800" y="593712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376280" y="593712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264360" y="593712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85800" y="594360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376280" y="594360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264360" y="5943600"/>
              <a:ext cx="612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86960" y="6197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0" name=""/>
          <p:cNvSpPr/>
          <p:nvPr/>
        </p:nvSpPr>
        <p:spPr>
          <a:xfrm>
            <a:off x="304920" y="8730720"/>
            <a:ext cx="342900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sources for Immigrant Serving Agency Sta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ertification Pathway Flowchart-Service Provider  Interven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8786-53FE-46B8-85AA-FC6A9178922B}" type="slidenum">
              <a:t>6</a:t>
            </a:fld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263240" y="19080"/>
            <a:ext cx="544212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he Certification Pathway: Service Provider Intervention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2" name=""/>
          <p:cNvSpPr/>
          <p:nvPr/>
        </p:nvSpPr>
        <p:spPr>
          <a:xfrm rot="16200000">
            <a:off x="3354120" y="-843840"/>
            <a:ext cx="4546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NeCTAR TOOLS &amp; RESOURCES (cont’d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85800" y="27162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376280" y="27162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382760" y="2716200"/>
            <a:ext cx="522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905120" y="271620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909800" y="2716200"/>
            <a:ext cx="43545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264360" y="271620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905120" y="2722680"/>
            <a:ext cx="468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905120" y="297180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905120" y="2978280"/>
            <a:ext cx="4680" cy="2246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905120" y="522432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5230800"/>
            <a:ext cx="468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905120" y="547992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905120" y="5486400"/>
            <a:ext cx="4680" cy="53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905120" y="6022800"/>
            <a:ext cx="4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685800" y="2031840"/>
            <a:ext cx="5617440" cy="4180320"/>
            <a:chOff x="685800" y="2031840"/>
            <a:chExt cx="5617440" cy="4180320"/>
          </a:xfrm>
        </p:grpSpPr>
        <p:sp>
          <p:nvSpPr>
            <p:cNvPr id="658" name=""/>
            <p:cNvSpPr/>
            <p:nvPr/>
          </p:nvSpPr>
          <p:spPr>
            <a:xfrm>
              <a:off x="785520" y="2075040"/>
              <a:ext cx="3794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rvention II:  Temporary Certification Preparatio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552200" y="2076480"/>
              <a:ext cx="601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(cont’d.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145480" y="20750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85800" y="203184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85800" y="203184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92280" y="2031840"/>
              <a:ext cx="55720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264360" y="203184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264360" y="203184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85800" y="203832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264360" y="2038320"/>
              <a:ext cx="612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477800" y="2330280"/>
              <a:ext cx="161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ep 6:  Provide Tra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084480" y="23302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126600" y="2330280"/>
              <a:ext cx="3176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pecific, Health and Safety, Labour Market,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098800" y="2503440"/>
              <a:ext cx="974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nd Union In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060000" y="2503440"/>
              <a:ext cx="1587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rmation and Referr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635720" y="2503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85800" y="228744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92280" y="2287440"/>
              <a:ext cx="68400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376280" y="228744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382760" y="2287440"/>
              <a:ext cx="488160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264360" y="228744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85800" y="2293920"/>
              <a:ext cx="6480" cy="422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376280" y="2293920"/>
              <a:ext cx="6480" cy="422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264360" y="2293920"/>
              <a:ext cx="6120" cy="422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011320" y="2760840"/>
              <a:ext cx="1117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NeCTAR Tool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117240" y="2763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85800" y="272268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376280" y="272268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264360" y="2722680"/>
              <a:ext cx="612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255400" y="3057480"/>
              <a:ext cx="3367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de Specific Certification Pathway Fact She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606640" y="3057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50080" y="3306600"/>
              <a:ext cx="161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ebsite Resource 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958920" y="3306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264040" y="355608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833560" y="35560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877120" y="3556080"/>
              <a:ext cx="237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pecific Labour Market Inform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239800" y="3556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255760" y="3805200"/>
              <a:ext cx="2878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esentation Slides:  Health and Safe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123160" y="3800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265840" y="4054320"/>
              <a:ext cx="2286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ight to Refuse Unsafe Work 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539960" y="4054320"/>
              <a:ext cx="56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owch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104800" y="40543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255760" y="4303800"/>
              <a:ext cx="2759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aling with a Critical Injury Flowch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995360" y="4303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64040" y="455292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833560" y="45529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874960" y="4552920"/>
              <a:ext cx="2655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pecific Health and Safety Fact Shee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517720" y="4552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259000" y="4802040"/>
              <a:ext cx="3443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ronto Workers Health and Safety Legal Clinic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509560" y="4976640"/>
              <a:ext cx="68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orksh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196800" y="4976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85800" y="297180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376280" y="297180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264360" y="297180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85800" y="2978280"/>
              <a:ext cx="6480" cy="2246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376280" y="2978280"/>
              <a:ext cx="6480" cy="2246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264360" y="2978280"/>
              <a:ext cx="6120" cy="2246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004480" y="5268960"/>
              <a:ext cx="198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Service Delivery Initiative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78720" y="5268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85800" y="522432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376280" y="522432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909800" y="5224320"/>
              <a:ext cx="43545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264360" y="522432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85800" y="523080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376280" y="523080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264360" y="5230800"/>
              <a:ext cx="612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90200" y="22971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480680" y="2725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006280" y="5564160"/>
              <a:ext cx="468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roup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473200" y="55641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518200" y="5564160"/>
              <a:ext cx="2567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des Specific Information Sess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074920" y="55641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006640" y="581328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216880" y="5813280"/>
              <a:ext cx="476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vidual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689920" y="5813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772360" y="5813280"/>
              <a:ext cx="169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formation and Referr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457160" y="5813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85800" y="547992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376280" y="547992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264360" y="547992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85800" y="5486400"/>
              <a:ext cx="6480" cy="536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85800" y="602280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85800" y="602280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92280" y="6022800"/>
              <a:ext cx="68400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376280" y="5486400"/>
              <a:ext cx="6480" cy="536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376280" y="602280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382760" y="6022800"/>
              <a:ext cx="5223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909800" y="6022800"/>
              <a:ext cx="43545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264360" y="5486400"/>
              <a:ext cx="6120" cy="536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264360" y="602280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264360" y="602280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86960" y="60292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0" name=""/>
          <p:cNvSpPr/>
          <p:nvPr/>
        </p:nvSpPr>
        <p:spPr>
          <a:xfrm>
            <a:off x="304920" y="8730720"/>
            <a:ext cx="33526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sources for Immigrant Serving Agency Sta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ertification Pathway Flowchart-Service Provider  Interven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BCD7-13A7-491F-8AEF-405F4E6A332D}" type="slidenum">
              <a:t>7</a:t>
            </a:fld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263240" y="19080"/>
            <a:ext cx="544212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he Certification Pathway: Service Provider Intervention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2" name=""/>
          <p:cNvSpPr/>
          <p:nvPr/>
        </p:nvSpPr>
        <p:spPr>
          <a:xfrm rot="16200000">
            <a:off x="3354120" y="-843840"/>
            <a:ext cx="4546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NeCTAR TOOLS &amp; RESOURCES (cont’d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85800" y="274176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374840" y="274176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380960" y="2741760"/>
            <a:ext cx="5209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901880" y="274176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1908000" y="2741760"/>
            <a:ext cx="43563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264360" y="274176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901880" y="2746440"/>
            <a:ext cx="612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85800" y="29955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1374840" y="299556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901880" y="299556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264360" y="299556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901880" y="3002040"/>
            <a:ext cx="6120" cy="574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85800" y="35766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374840" y="357660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901880" y="357660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908000" y="3576600"/>
            <a:ext cx="4356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264360" y="357660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901880" y="3583080"/>
            <a:ext cx="612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85800" y="38322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374840" y="383220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901880" y="383220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264360" y="383220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901880" y="3838680"/>
            <a:ext cx="612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85800" y="408780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374840" y="408780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380960" y="4087800"/>
            <a:ext cx="5209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901880" y="408780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908000" y="4087800"/>
            <a:ext cx="43563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264360" y="408780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85800" y="451656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374840" y="451656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380960" y="4516560"/>
            <a:ext cx="5209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901880" y="451656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908000" y="4516560"/>
            <a:ext cx="43563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6264360" y="451656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901880" y="4521240"/>
            <a:ext cx="6120" cy="325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85800" y="48466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374840" y="484668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901880" y="484668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264360" y="484668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1901880" y="4853160"/>
            <a:ext cx="6120" cy="496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1901880" y="534996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901880" y="5356080"/>
            <a:ext cx="6120" cy="25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901880" y="560700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85800" y="586260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85800" y="586260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92280" y="5862600"/>
            <a:ext cx="6825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374840" y="586260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380960" y="5862600"/>
            <a:ext cx="5209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901880" y="5613480"/>
            <a:ext cx="612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1901880" y="586260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908000" y="5862600"/>
            <a:ext cx="43563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264360" y="586260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6264360" y="586260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7" name=""/>
          <p:cNvGrpSpPr/>
          <p:nvPr/>
        </p:nvGrpSpPr>
        <p:grpSpPr>
          <a:xfrm>
            <a:off x="685800" y="2057400"/>
            <a:ext cx="5584680" cy="3992760"/>
            <a:chOff x="685800" y="2057400"/>
            <a:chExt cx="5584680" cy="3992760"/>
          </a:xfrm>
        </p:grpSpPr>
        <p:sp>
          <p:nvSpPr>
            <p:cNvPr id="808" name=""/>
            <p:cNvSpPr/>
            <p:nvPr/>
          </p:nvSpPr>
          <p:spPr>
            <a:xfrm>
              <a:off x="787320" y="2100240"/>
              <a:ext cx="3420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rvention III:  Trade Certification Prepar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183560" y="2100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85800" y="205740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685800" y="205740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92280" y="2057400"/>
              <a:ext cx="55720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264360" y="205740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264360" y="205740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85800" y="206388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264360" y="2063880"/>
              <a:ext cx="612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475280" y="2354400"/>
              <a:ext cx="451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ep 7a:  Provide Job Search Coaching and Job Developmen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095200" y="2529000"/>
              <a:ext cx="584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673720" y="2529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85800" y="2313000"/>
              <a:ext cx="64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92280" y="2313000"/>
              <a:ext cx="6825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374840" y="23130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380960" y="2313000"/>
              <a:ext cx="48834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264360" y="23130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85800" y="2317680"/>
              <a:ext cx="6480" cy="424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374840" y="2317680"/>
              <a:ext cx="6120" cy="424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264360" y="2317680"/>
              <a:ext cx="6120" cy="424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054160" y="2784600"/>
              <a:ext cx="1117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NeCTAR Tool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161160" y="2784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85800" y="274644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374840" y="2746440"/>
              <a:ext cx="612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264360" y="2746440"/>
              <a:ext cx="612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260800" y="308124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830320" y="30812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877480" y="3081240"/>
              <a:ext cx="1852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pecific Market Inform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720680" y="3081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344680" y="3328920"/>
              <a:ext cx="2201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mployer Information Brochu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533480" y="3328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85800" y="3002040"/>
              <a:ext cx="6480" cy="574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374840" y="3002040"/>
              <a:ext cx="6120" cy="574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264360" y="3002040"/>
              <a:ext cx="6120" cy="574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003040" y="3621240"/>
              <a:ext cx="198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Service Delivery Initiative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972960" y="36241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85800" y="358308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374840" y="3583080"/>
              <a:ext cx="612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264360" y="3583080"/>
              <a:ext cx="612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479240" y="2787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002320" y="3878280"/>
              <a:ext cx="689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dividual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686680" y="3878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769480" y="3878280"/>
              <a:ext cx="169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formation and Referr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453920" y="3878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85800" y="383868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374840" y="3838680"/>
              <a:ext cx="612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264360" y="3838680"/>
              <a:ext cx="612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475280" y="4129200"/>
              <a:ext cx="4729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ep 9b:  Explore Other Options and Related Trades and Provid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206800" y="4303800"/>
              <a:ext cx="177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formation and Referr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965760" y="4303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85800" y="4092480"/>
              <a:ext cx="6480" cy="424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374840" y="4092480"/>
              <a:ext cx="6120" cy="424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64360" y="4092480"/>
              <a:ext cx="6120" cy="424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054160" y="4597560"/>
              <a:ext cx="1117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NeCTAR Tool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161160" y="4597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85800" y="4521240"/>
              <a:ext cx="6480" cy="32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374840" y="4521240"/>
              <a:ext cx="6120" cy="32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64360" y="4521240"/>
              <a:ext cx="6120" cy="32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260800" y="485460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830320" y="48546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878560" y="4854600"/>
              <a:ext cx="84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pecific Sel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717720" y="48546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765240" y="4854600"/>
              <a:ext cx="157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ssessment Checklis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325480" y="4854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346840" y="5103720"/>
              <a:ext cx="1462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ebsite Resource 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804840" y="5103720"/>
              <a:ext cx="153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955680" y="5103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85800" y="4853160"/>
              <a:ext cx="6480" cy="49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374840" y="4853160"/>
              <a:ext cx="6120" cy="49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264360" y="4853160"/>
              <a:ext cx="6120" cy="496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003040" y="5394240"/>
              <a:ext cx="198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Service Delivery Initiative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975480" y="5394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85800" y="5349960"/>
              <a:ext cx="64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374840" y="5349960"/>
              <a:ext cx="612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908000" y="5349960"/>
              <a:ext cx="435636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264360" y="5349960"/>
              <a:ext cx="612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85800" y="5356080"/>
              <a:ext cx="6480" cy="250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374840" y="5356080"/>
              <a:ext cx="6120" cy="250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264360" y="5356080"/>
              <a:ext cx="6120" cy="250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92360" y="23544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479240" y="4524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002320" y="5653080"/>
              <a:ext cx="689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dividual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686680" y="56530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763000" y="5653080"/>
              <a:ext cx="2271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dentify New Options/Action Pl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023800" y="5653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85800" y="560700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374840" y="560700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264360" y="560700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85800" y="561348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374840" y="5613480"/>
              <a:ext cx="612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264360" y="5613480"/>
              <a:ext cx="612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86960" y="58672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0" name=""/>
          <p:cNvSpPr/>
          <p:nvPr/>
        </p:nvSpPr>
        <p:spPr>
          <a:xfrm>
            <a:off x="304920" y="8730720"/>
            <a:ext cx="320040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sources for Immigrant Serving Agency Sta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ertification Pathway Flowchart-Service Provider Interven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51AC-40E2-419F-A588-8865112589B0}" type="slidenum">
              <a:t>8</a:t>
            </a:fld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7T18:52:31Z</dcterms:created>
  <dc:creator>Jane</dc:creator>
  <dc:description/>
  <dc:language>en-US</dc:language>
  <cp:lastModifiedBy>marymay</cp:lastModifiedBy>
  <dcterms:modified xsi:type="dcterms:W3CDTF">2005-08-25T14:18:53Z</dcterms:modified>
  <cp:revision>215</cp:revision>
  <dc:subject/>
  <dc:title>Newcomers Connecting to Trades Apprenticeship Resources (NeCTAR)</dc:title>
</cp:coreProperties>
</file>