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B1DD-1C75-4751-A30F-F68AA197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C076-3B68-4E14-89C6-54E8C1DF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807-EAAE-4A7D-9810-179076F6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185D-B8A0-4C41-A524-56AFA325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48060-ECB1-4A5B-B5AB-55C3C95D5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AB0BE-E2D1-46BC-B6C6-85AFE70E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61DCD-9513-487C-A71D-0A62278B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E7AFE-2BD9-4125-A960-501DBFE1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54A38-96CA-4FE8-9259-9E2548E7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03238-9A39-418B-82E4-ED857652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4F5443-9A47-4576-BF15-AF0AD8DB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6C0A-568D-49F6-9950-97D85561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087F0-142B-411F-96BB-C67F9443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177F7-1CF6-4DCD-9D25-41267F8E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A96533-04A8-4178-B04B-D7EF39F3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BE354-BE92-40AD-8FF3-7B5FE53B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7F534-15AA-4FE2-AE02-E765EF27C9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8BE-B669-4136-8C36-7615E676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8815-8F3B-47B8-83EC-2F2F3296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6BA-2330-4277-B9D3-4225070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FEF-AA47-4299-831E-BF5B56E7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8F9-AED5-4320-BAE1-7F886C14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3622-B1B1-4998-9E3D-C52FCB0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B5F2-A071-47C9-A7E8-4A89C296C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EDAA-015A-4AFA-8434-E05B1F02F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9D8-B08B-446D-B21D-025688CCB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76520"/>
            <a:ext cx="5790960" cy="6858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420720" y="-1563120"/>
            <a:ext cx="454680" cy="59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955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043600" y="8202600"/>
            <a:ext cx="457200" cy="304920"/>
            <a:chOff x="5043600" y="8202600"/>
            <a:chExt cx="457200" cy="304920"/>
          </a:xfrm>
        </p:grpSpPr>
        <p:sp>
          <p:nvSpPr>
            <p:cNvPr id="104" name=""/>
            <p:cNvSpPr/>
            <p:nvPr/>
          </p:nvSpPr>
          <p:spPr>
            <a:xfrm>
              <a:off x="5081760" y="82026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043600" y="8218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09480" y="3733920"/>
            <a:ext cx="3124440" cy="533160"/>
            <a:chOff x="609480" y="3733920"/>
            <a:chExt cx="3124440" cy="533160"/>
          </a:xfrm>
        </p:grpSpPr>
        <p:sp>
          <p:nvSpPr>
            <p:cNvPr id="107" name=""/>
            <p:cNvSpPr/>
            <p:nvPr/>
          </p:nvSpPr>
          <p:spPr>
            <a:xfrm>
              <a:off x="609480" y="3733920"/>
              <a:ext cx="3124440" cy="5331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0640" y="3852720"/>
              <a:ext cx="310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1666800" y="6705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9440" y="23526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19560" y="6081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47640" y="1752480"/>
            <a:ext cx="3047760" cy="1752840"/>
            <a:chOff x="647640" y="1752480"/>
            <a:chExt cx="3047760" cy="1752840"/>
          </a:xfrm>
        </p:grpSpPr>
        <p:sp>
          <p:nvSpPr>
            <p:cNvPr id="113" name=""/>
            <p:cNvSpPr/>
            <p:nvPr/>
          </p:nvSpPr>
          <p:spPr>
            <a:xfrm>
              <a:off x="647640" y="1752480"/>
              <a:ext cx="3047760" cy="17528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69640" y="2127240"/>
              <a:ext cx="2100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attempted certification but did not meet assessment requirements or did not pass the 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r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and Final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4038480" y="2438280"/>
            <a:ext cx="1981080" cy="381240"/>
            <a:chOff x="4038480" y="2438280"/>
            <a:chExt cx="1981080" cy="381240"/>
          </a:xfrm>
        </p:grpSpPr>
        <p:sp>
          <p:nvSpPr>
            <p:cNvPr id="116" name=""/>
            <p:cNvSpPr/>
            <p:nvPr/>
          </p:nvSpPr>
          <p:spPr>
            <a:xfrm>
              <a:off x="4038480" y="2438280"/>
              <a:ext cx="1981080" cy="381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2880" y="2468160"/>
              <a:ext cx="177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rtification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143000" y="4559400"/>
            <a:ext cx="2057400" cy="1143000"/>
            <a:chOff x="1143000" y="4559400"/>
            <a:chExt cx="2057400" cy="1143000"/>
          </a:xfrm>
        </p:grpSpPr>
        <p:sp>
          <p:nvSpPr>
            <p:cNvPr id="119" name=""/>
            <p:cNvSpPr/>
            <p:nvPr/>
          </p:nvSpPr>
          <p:spPr>
            <a:xfrm>
              <a:off x="1143000" y="4559400"/>
              <a:ext cx="2057400" cy="11430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7920" y="4732560"/>
              <a:ext cx="1500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as client completed Gr. 12 (Gr. 10-TQAA Trades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895320" y="7040520"/>
            <a:ext cx="2552760" cy="1338480"/>
            <a:chOff x="895320" y="7040520"/>
            <a:chExt cx="2552760" cy="1338480"/>
          </a:xfrm>
        </p:grpSpPr>
        <p:sp>
          <p:nvSpPr>
            <p:cNvPr id="122" name=""/>
            <p:cNvSpPr/>
            <p:nvPr/>
          </p:nvSpPr>
          <p:spPr>
            <a:xfrm>
              <a:off x="895320" y="7040520"/>
              <a:ext cx="2552760" cy="1338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95320" y="7197840"/>
              <a:ext cx="255276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Provide job search and job development support for client to secure apprenticeship sponsor and refer to pre-apprenticeship training.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38480" y="4768920"/>
            <a:ext cx="1981440" cy="723960"/>
            <a:chOff x="4038480" y="4768920"/>
            <a:chExt cx="1981440" cy="723960"/>
          </a:xfrm>
        </p:grpSpPr>
        <p:sp>
          <p:nvSpPr>
            <p:cNvPr id="125" name=""/>
            <p:cNvSpPr/>
            <p:nvPr/>
          </p:nvSpPr>
          <p:spPr>
            <a:xfrm>
              <a:off x="4038480" y="4768920"/>
              <a:ext cx="1981440" cy="7239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43240" y="490212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fer to Academic Upgra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038480" y="5948280"/>
            <a:ext cx="1981440" cy="771480"/>
            <a:chOff x="4038480" y="5948280"/>
            <a:chExt cx="1981440" cy="771480"/>
          </a:xfrm>
        </p:grpSpPr>
        <p:sp>
          <p:nvSpPr>
            <p:cNvPr id="128" name=""/>
            <p:cNvSpPr/>
            <p:nvPr/>
          </p:nvSpPr>
          <p:spPr>
            <a:xfrm>
              <a:off x="4038480" y="5948280"/>
              <a:ext cx="1981440" cy="7714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3240" y="6080040"/>
              <a:ext cx="177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ise client to take GED Test.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701880" y="7253280"/>
            <a:ext cx="2552760" cy="914400"/>
            <a:chOff x="3701880" y="7253280"/>
            <a:chExt cx="2552760" cy="914400"/>
          </a:xfrm>
        </p:grpSpPr>
        <p:sp>
          <p:nvSpPr>
            <p:cNvPr id="131" name=""/>
            <p:cNvSpPr/>
            <p:nvPr/>
          </p:nvSpPr>
          <p:spPr>
            <a:xfrm>
              <a:off x="3701880" y="7253280"/>
              <a:ext cx="2552760" cy="9144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1880" y="728280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.  Register for apprenticeship at MTCU Local Branch Office.  Fill-in application for apprenticeship (Fee: $40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3352680" y="4876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81200" y="5667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8172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43000" y="5877000"/>
            <a:ext cx="2057400" cy="914400"/>
            <a:chOff x="1143000" y="5877000"/>
            <a:chExt cx="2057400" cy="914400"/>
          </a:xfrm>
        </p:grpSpPr>
        <p:sp>
          <p:nvSpPr>
            <p:cNvPr id="137" name=""/>
            <p:cNvSpPr/>
            <p:nvPr/>
          </p:nvSpPr>
          <p:spPr>
            <a:xfrm>
              <a:off x="1143000" y="5877000"/>
              <a:ext cx="20574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47920" y="5992920"/>
              <a:ext cx="1500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client provide academic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9" name=""/>
          <p:cNvCxnSpPr>
            <a:stCxn id="113" idx="2"/>
            <a:endCxn id="107" idx="0"/>
          </p:cNvCxnSpPr>
          <p:nvPr/>
        </p:nvCxnSpPr>
        <p:spPr>
          <a:xfrm>
            <a:off x="2171520" y="3505320"/>
            <a:ext cx="72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07" idx="2"/>
            <a:endCxn id="119" idx="0"/>
          </p:cNvCxnSpPr>
          <p:nvPr/>
        </p:nvCxnSpPr>
        <p:spPr>
          <a:xfrm flipH="1">
            <a:off x="2171520" y="4267080"/>
            <a:ext cx="72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19" idx="2"/>
            <a:endCxn id="137" idx="0"/>
          </p:cNvCxnSpPr>
          <p:nvPr/>
        </p:nvCxnSpPr>
        <p:spPr>
          <a:xfrm>
            <a:off x="2171520" y="5702400"/>
            <a:ext cx="360" cy="17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7" idx="2"/>
            <a:endCxn id="122" idx="0"/>
          </p:cNvCxnSpPr>
          <p:nvPr/>
        </p:nvCxnSpPr>
        <p:spPr>
          <a:xfrm>
            <a:off x="2171520" y="6791400"/>
            <a:ext cx="360" cy="24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13" idx="3"/>
            <a:endCxn id="116" idx="1"/>
          </p:cNvCxnSpPr>
          <p:nvPr/>
        </p:nvCxnSpPr>
        <p:spPr>
          <a:xfrm>
            <a:off x="3695400" y="2629080"/>
            <a:ext cx="343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19" idx="3"/>
            <a:endCxn id="125" idx="1"/>
          </p:cNvCxnSpPr>
          <p:nvPr/>
        </p:nvCxnSpPr>
        <p:spPr>
          <a:xfrm>
            <a:off x="3200400" y="513108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7" idx="3"/>
            <a:endCxn id="128" idx="1"/>
          </p:cNvCxnSpPr>
          <p:nvPr/>
        </p:nvCxnSpPr>
        <p:spPr>
          <a:xfrm>
            <a:off x="3200400" y="6334200"/>
            <a:ext cx="8384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3" idx="3"/>
            <a:endCxn id="132" idx="1"/>
          </p:cNvCxnSpPr>
          <p:nvPr/>
        </p:nvCxnSpPr>
        <p:spPr>
          <a:xfrm flipV="1">
            <a:off x="3448080" y="7694640"/>
            <a:ext cx="25416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82CC-897D-4997-85D9-2AF1CA5C7194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3306240" y="-15382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505320" y="7756560"/>
            <a:ext cx="457200" cy="304920"/>
            <a:chOff x="3505320" y="77565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3480" y="77565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7772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028960" y="2727360"/>
            <a:ext cx="2714400" cy="1023840"/>
            <a:chOff x="2028960" y="2727360"/>
            <a:chExt cx="2714400" cy="1023840"/>
          </a:xfrm>
        </p:grpSpPr>
        <p:sp>
          <p:nvSpPr>
            <p:cNvPr id="155" name=""/>
            <p:cNvSpPr/>
            <p:nvPr/>
          </p:nvSpPr>
          <p:spPr>
            <a:xfrm>
              <a:off x="2085840" y="2727360"/>
              <a:ext cx="2552760" cy="10238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28960" y="2906640"/>
              <a:ext cx="27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Provide trade-specific information about apprenticeship 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085840" y="4708440"/>
            <a:ext cx="2552760" cy="1059120"/>
            <a:chOff x="2085840" y="4708440"/>
            <a:chExt cx="2552760" cy="1059120"/>
          </a:xfrm>
        </p:grpSpPr>
        <p:sp>
          <p:nvSpPr>
            <p:cNvPr id="158" name=""/>
            <p:cNvSpPr/>
            <p:nvPr/>
          </p:nvSpPr>
          <p:spPr>
            <a:xfrm>
              <a:off x="2085840" y="4708440"/>
              <a:ext cx="2552760" cy="1059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5840" y="483228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Prepare for consultation with Training Consultant and Sponsor/Employer.  Refer to Training Standards Manual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085840" y="6689880"/>
            <a:ext cx="2552760" cy="609480"/>
            <a:chOff x="2085840" y="6689880"/>
            <a:chExt cx="2552760" cy="609480"/>
          </a:xfrm>
        </p:grpSpPr>
        <p:sp>
          <p:nvSpPr>
            <p:cNvPr id="161" name=""/>
            <p:cNvSpPr/>
            <p:nvPr/>
          </p:nvSpPr>
          <p:spPr>
            <a:xfrm>
              <a:off x="2085840" y="6689880"/>
              <a:ext cx="25527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85840" y="6765840"/>
              <a:ext cx="255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Inform about “Fast-tracking” possibilities where applicabl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400560" y="2031840"/>
            <a:ext cx="457200" cy="304920"/>
            <a:chOff x="3400560" y="2031840"/>
            <a:chExt cx="457200" cy="304920"/>
          </a:xfrm>
        </p:grpSpPr>
        <p:sp>
          <p:nvSpPr>
            <p:cNvPr id="164" name=""/>
            <p:cNvSpPr/>
            <p:nvPr/>
          </p:nvSpPr>
          <p:spPr>
            <a:xfrm>
              <a:off x="3438720" y="20318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00560" y="20476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6" name=""/>
          <p:cNvCxnSpPr>
            <a:stCxn id="155" idx="2"/>
            <a:endCxn id="158" idx="0"/>
          </p:cNvCxnSpPr>
          <p:nvPr/>
        </p:nvCxnSpPr>
        <p:spPr>
          <a:xfrm>
            <a:off x="3362040" y="3750840"/>
            <a:ext cx="108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8" idx="2"/>
            <a:endCxn id="161" idx="0"/>
          </p:cNvCxnSpPr>
          <p:nvPr/>
        </p:nvCxnSpPr>
        <p:spPr>
          <a:xfrm>
            <a:off x="3362040" y="5767560"/>
            <a:ext cx="1080" cy="92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367080" y="19652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2680" y="729936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D4C-33B6-4652-B821-EE20A56B7B5B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363480" y="-150912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Apprenticeship Comple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33640" y="2816280"/>
            <a:ext cx="2552760" cy="1069920"/>
            <a:chOff x="2033640" y="2816280"/>
            <a:chExt cx="2552760" cy="1069920"/>
          </a:xfrm>
        </p:grpSpPr>
        <p:sp>
          <p:nvSpPr>
            <p:cNvPr id="175" name=""/>
            <p:cNvSpPr/>
            <p:nvPr/>
          </p:nvSpPr>
          <p:spPr>
            <a:xfrm>
              <a:off x="2033640" y="2816280"/>
              <a:ext cx="2552760" cy="1069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33640" y="2946240"/>
              <a:ext cx="25527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Coach client on apprenticeship maintenance and advocate with Employer if necessary.   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033640" y="4797360"/>
            <a:ext cx="2552760" cy="917640"/>
            <a:chOff x="2033640" y="4797360"/>
            <a:chExt cx="2552760" cy="917640"/>
          </a:xfrm>
        </p:grpSpPr>
        <p:sp>
          <p:nvSpPr>
            <p:cNvPr id="178" name=""/>
            <p:cNvSpPr/>
            <p:nvPr/>
          </p:nvSpPr>
          <p:spPr>
            <a:xfrm>
              <a:off x="2033640" y="4797360"/>
              <a:ext cx="2552760" cy="9176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33640" y="4937040"/>
              <a:ext cx="2552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Provide C of Q Exam preparation support resource and referral information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400560" y="2120760"/>
            <a:ext cx="457200" cy="304920"/>
            <a:chOff x="3400560" y="2120760"/>
            <a:chExt cx="457200" cy="304920"/>
          </a:xfrm>
        </p:grpSpPr>
        <p:sp>
          <p:nvSpPr>
            <p:cNvPr id="181" name=""/>
            <p:cNvSpPr/>
            <p:nvPr/>
          </p:nvSpPr>
          <p:spPr>
            <a:xfrm>
              <a:off x="3438720" y="21207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00560" y="213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3" name=""/>
          <p:cNvCxnSpPr>
            <a:stCxn id="175" idx="2"/>
            <a:endCxn id="178" idx="0"/>
          </p:cNvCxnSpPr>
          <p:nvPr/>
        </p:nvCxnSpPr>
        <p:spPr>
          <a:xfrm>
            <a:off x="3309480" y="3885840"/>
            <a:ext cx="1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3281400" y="20541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014560" y="6854760"/>
            <a:ext cx="2590560" cy="838440"/>
            <a:chOff x="2014560" y="6854760"/>
            <a:chExt cx="2590560" cy="838440"/>
          </a:xfrm>
        </p:grpSpPr>
        <p:sp>
          <p:nvSpPr>
            <p:cNvPr id="186" name=""/>
            <p:cNvSpPr/>
            <p:nvPr/>
          </p:nvSpPr>
          <p:spPr>
            <a:xfrm>
              <a:off x="2014560" y="6854760"/>
              <a:ext cx="2590560" cy="8384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51000" y="6922800"/>
              <a:ext cx="2317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Go to Certification Pathway, Step III. Prepare client for Trade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8" name=""/>
          <p:cNvCxnSpPr>
            <a:stCxn id="178" idx="2"/>
            <a:endCxn id="186" idx="0"/>
          </p:cNvCxnSpPr>
          <p:nvPr/>
        </p:nvCxnSpPr>
        <p:spPr>
          <a:xfrm>
            <a:off x="3309480" y="5715000"/>
            <a:ext cx="1080" cy="11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F23-0800-45D6-B210-4A0ACC23ED63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904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5160" y="1981080"/>
            <a:ext cx="55724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267600" y="198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04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67600" y="19875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904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5160" y="231300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84200" y="2313000"/>
            <a:ext cx="48834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67600" y="23130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904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7808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7600" y="23194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904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808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84200" y="256860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512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11240" y="256860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7600" y="25686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904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808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67600" y="257508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04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37808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512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600" y="2824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904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808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67600" y="2830680"/>
            <a:ext cx="6120" cy="299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904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808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0512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911240" y="5827680"/>
            <a:ext cx="43563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67600" y="58276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904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808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0512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67600" y="58323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904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808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512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67600" y="6083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904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7808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0512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67600" y="6089760"/>
            <a:ext cx="6120" cy="785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904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37808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84200" y="687564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687564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7600" y="687564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04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7808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67600" y="688176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904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808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4200" y="71308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0512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11240" y="71308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7600" y="71308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904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808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90512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67600" y="713736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904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808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267600" y="74628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904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37808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67600" y="746928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904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808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67600" y="8043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904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808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0512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67600" y="805032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791280" y="2062080"/>
            <a:ext cx="5476320" cy="6466320"/>
            <a:chOff x="791280" y="2062080"/>
            <a:chExt cx="5476320" cy="6466320"/>
          </a:xfrm>
        </p:grpSpPr>
        <p:sp>
          <p:nvSpPr>
            <p:cNvPr id="278" name=""/>
            <p:cNvSpPr/>
            <p:nvPr/>
          </p:nvSpPr>
          <p:spPr>
            <a:xfrm>
              <a:off x="791280" y="2062080"/>
              <a:ext cx="397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:  Apprenticeship Applica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2248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81400" y="2354400"/>
              <a:ext cx="319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1:  Provide Apprenticeship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432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57400" y="26114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63680" y="2611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57560" y="2908440"/>
              <a:ext cx="2346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Apprenticeship Glo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92160" y="2908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53240" y="3157560"/>
              <a:ext cx="385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Trades Apprenticeship in O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89400" y="315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57920" y="3408480"/>
              <a:ext cx="194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ulation of the Apprent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187160" y="3408480"/>
              <a:ext cx="1922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eship Trades &amp; the Trade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4160" y="3581280"/>
              <a:ext cx="88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ig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38256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350440" y="38322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58920" y="3832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53240" y="4081320"/>
              <a:ext cx="251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57760" y="40813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02040" y="4081320"/>
              <a:ext cx="1121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916240" y="408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51080" y="4330800"/>
              <a:ext cx="325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esentation Slides:  Apprenticeship Path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495760" y="43308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53240" y="4579920"/>
              <a:ext cx="255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Flowchar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00600" y="457992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8120" y="457992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79760" y="45799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56120" y="4830840"/>
              <a:ext cx="185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00760" y="4830840"/>
              <a:ext cx="125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formation She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46720" y="48308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5680" y="4830840"/>
              <a:ext cx="433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25880" y="48308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254680" y="50799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16000" y="5079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64400" y="53290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833560" y="53290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71360" y="532908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5320" y="5329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58640" y="5578560"/>
              <a:ext cx="3129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nancial Supports and Referral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374800" y="5578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06280" y="58705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76200" y="5873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82480" y="2614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08080" y="616752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72480" y="61675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49880" y="6167520"/>
              <a:ext cx="267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ic Apprenticeship Information 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08840" y="6167520"/>
              <a:ext cx="43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8320" y="6167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37600" y="640080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142720" y="6416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06640" y="666756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06600" y="6667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48720" y="6667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497200" y="6667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78160" y="6918480"/>
              <a:ext cx="348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2:  Provide Apprenticeship Search Sup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38480" y="6918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72136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63680" y="7213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4400" y="7547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833560" y="75470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77120" y="754704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40160" y="7547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47200" y="7796160"/>
              <a:ext cx="139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mployer Broch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31760" y="7796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006280" y="80866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78000" y="80866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911240" y="804384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488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482480" y="714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9520" y="8345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68904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808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267600" y="82994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904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904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95160" y="8556480"/>
            <a:ext cx="682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7808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37808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84200" y="8556480"/>
            <a:ext cx="520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0512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0512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11240" y="8556480"/>
            <a:ext cx="4356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67600" y="8305920"/>
            <a:ext cx="612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267600" y="8556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90200" y="8562960"/>
            <a:ext cx="3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329-C6D6-445F-9A4D-CA37985B963D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024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6720" y="1981080"/>
            <a:ext cx="55720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38800" y="19810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60240" y="19875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02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66720" y="2313000"/>
            <a:ext cx="6793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4604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2313000"/>
            <a:ext cx="48862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238800" y="231300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60240" y="231768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602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4604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52520" y="274176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7308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9560" y="274176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38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024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3080" y="274788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024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3080" y="29973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6024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873080" y="3003480"/>
            <a:ext cx="6480" cy="1074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602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4604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7308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79560" y="40784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238800" y="4078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024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873080" y="4084560"/>
            <a:ext cx="648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6024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73080" y="4334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6024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873080" y="4340160"/>
            <a:ext cx="648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602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4604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52520" y="4591080"/>
            <a:ext cx="5205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7308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79560" y="459108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238800" y="459108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0240" y="4595760"/>
            <a:ext cx="6480" cy="4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02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34604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52520" y="5019840"/>
            <a:ext cx="5205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7308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9560" y="5019840"/>
            <a:ext cx="4359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38800" y="50198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6024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3080" y="5025960"/>
            <a:ext cx="648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602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4604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87308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238800" y="535140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6024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73080" y="5357880"/>
            <a:ext cx="648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02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34604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7308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79560" y="5932440"/>
            <a:ext cx="4359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238800" y="59324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024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73080" y="5937120"/>
            <a:ext cx="6480" cy="252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024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873080" y="618984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6024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02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6720" y="6445080"/>
            <a:ext cx="67932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4604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352520" y="6445080"/>
            <a:ext cx="52056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3080" y="6194520"/>
            <a:ext cx="6480" cy="25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308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9560" y="6445080"/>
            <a:ext cx="435924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238800" y="6445080"/>
            <a:ext cx="6480" cy="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1400" y="1987560"/>
            <a:ext cx="5485320" cy="4645440"/>
            <a:chOff x="761400" y="1987560"/>
            <a:chExt cx="5485320" cy="4645440"/>
          </a:xfrm>
        </p:grpSpPr>
        <p:sp>
          <p:nvSpPr>
            <p:cNvPr id="445" name=""/>
            <p:cNvSpPr/>
            <p:nvPr/>
          </p:nvSpPr>
          <p:spPr>
            <a:xfrm>
              <a:off x="767160" y="2062080"/>
              <a:ext cx="91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668240" y="2062080"/>
              <a:ext cx="2868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I:  Apprenticeship Training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15120" y="2062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38800" y="19875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447560" y="235440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4:  Provide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54240" y="235440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00320" y="2354400"/>
              <a:ext cx="314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ecific Information About Apprenticeshi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63880" y="2529000"/>
              <a:ext cx="713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7738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34604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238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25720" y="278604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132360" y="2786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4604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38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18400" y="3083040"/>
              <a:ext cx="161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26880" y="30830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225160" y="3332160"/>
              <a:ext cx="247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Pathway Check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84320" y="33321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233800" y="35812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01880" y="358128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40400" y="3581280"/>
              <a:ext cx="270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30680" y="3581280"/>
              <a:ext cx="37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3280" y="3581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233800" y="38307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01880" y="38307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5440" y="3830760"/>
              <a:ext cx="237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Labour Market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208120" y="3830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34604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238800" y="29973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34604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238800" y="3003480"/>
              <a:ext cx="6480" cy="1074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74240" y="4122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944520" y="4125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34604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38800" y="408456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450440" y="2789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976040" y="43815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44152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489040" y="438156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931840" y="438156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73960" y="4381560"/>
              <a:ext cx="306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000" y="4381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34604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38800" y="433404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34604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38800" y="43401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53680" y="4632480"/>
              <a:ext cx="4571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5:  Prepare for Consultation with Training Consultant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63880" y="4807080"/>
              <a:ext cx="1358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ponsor/Employ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408840" y="4807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4604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38800" y="459576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25720" y="510228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132360" y="5102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4604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38800" y="502596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34880" y="5435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8040" y="54356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01880" y="5435640"/>
              <a:ext cx="51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839320" y="5435640"/>
              <a:ext cx="3079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pecific Apprenticeship Pathway Fact Shee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03280" y="5435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30200" y="5684760"/>
              <a:ext cx="21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des with Exemption Tes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360320" y="56847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4604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38800" y="535788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74240" y="597528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947040" y="59752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4604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38800" y="5937120"/>
              <a:ext cx="6480" cy="252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1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50440" y="502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977480" y="62355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34604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238800" y="618984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4604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38800" y="6194520"/>
              <a:ext cx="6480" cy="25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61400" y="6450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531-F4DC-4AE7-B814-41319E5157EF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63240" y="19080"/>
            <a:ext cx="5442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 Apprenticeship Pathway: Service Provider Intervention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3468240" y="-851760"/>
            <a:ext cx="4546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NeCTAR TOOLS &amp; RESOURCES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274176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37484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380960" y="2741760"/>
            <a:ext cx="5209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0188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08000" y="2741760"/>
            <a:ext cx="4356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64360" y="274176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901880" y="2747880"/>
            <a:ext cx="6120" cy="24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5800" y="2997360"/>
            <a:ext cx="648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7484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188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64360" y="299736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901880" y="3002040"/>
            <a:ext cx="6120" cy="32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901880" y="33289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01880" y="33354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901880" y="35845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901880" y="3591000"/>
            <a:ext cx="6120" cy="24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901880" y="384012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901880" y="409572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901880" y="4100400"/>
            <a:ext cx="6120" cy="32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901880" y="44258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1880" y="4432320"/>
            <a:ext cx="6120" cy="57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01880" y="5006880"/>
            <a:ext cx="612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01880" y="5011560"/>
            <a:ext cx="6120" cy="25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01880" y="52624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01880" y="5268960"/>
            <a:ext cx="6120" cy="460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901880" y="5729400"/>
            <a:ext cx="61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685800" y="1981080"/>
            <a:ext cx="5584680" cy="3937320"/>
            <a:chOff x="685800" y="1981080"/>
            <a:chExt cx="5584680" cy="3937320"/>
          </a:xfrm>
        </p:grpSpPr>
        <p:sp>
          <p:nvSpPr>
            <p:cNvPr id="552" name=""/>
            <p:cNvSpPr/>
            <p:nvPr/>
          </p:nvSpPr>
          <p:spPr>
            <a:xfrm>
              <a:off x="789840" y="2060640"/>
              <a:ext cx="4063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vention III:  Apprenticeship Completion Prepa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16800" y="2060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85800" y="19810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2280" y="1981080"/>
              <a:ext cx="55720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264360" y="19810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85800" y="1987560"/>
              <a:ext cx="648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64360" y="1987560"/>
              <a:ext cx="6120" cy="32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77440" y="2354400"/>
              <a:ext cx="423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7:  Coach Client on Apprenticeship Maintenance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91960" y="2529000"/>
              <a:ext cx="103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vocate wi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07880" y="2529000"/>
              <a:ext cx="1684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 if Necess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777200" y="2529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85800" y="231156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92280" y="231156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37484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80960" y="2311560"/>
              <a:ext cx="488340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64360" y="231156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5800" y="2317680"/>
              <a:ext cx="648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37484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64360" y="2317680"/>
              <a:ext cx="6120" cy="424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54160" y="2784600"/>
              <a:ext cx="111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61160" y="2784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85800" y="2747880"/>
              <a:ext cx="648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7484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264360" y="2747880"/>
              <a:ext cx="6120" cy="24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49640" y="3081240"/>
              <a:ext cx="3088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uidelines for Apprenticeship 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327280" y="30812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85800" y="3002040"/>
              <a:ext cx="648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37484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64360" y="3002040"/>
              <a:ext cx="6120" cy="32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003040" y="337356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972960" y="33764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800" y="33289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7484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8000" y="33289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64360" y="33289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5800" y="33354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37484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264360" y="33354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79240" y="27874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004840" y="363060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69240" y="3630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43040" y="3630600"/>
              <a:ext cx="344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renticeship Maintenance Information Sess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974920" y="36306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85800" y="35845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37484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264360" y="35845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5800" y="35910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37484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264360" y="35910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75280" y="3881520"/>
              <a:ext cx="476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ep 8:  Provide C of Q Exam Preparation Support and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04240" y="3881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5800" y="384012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7484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0960" y="3840120"/>
              <a:ext cx="520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08000" y="3840120"/>
              <a:ext cx="4356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64360" y="384012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85800" y="3846600"/>
              <a:ext cx="648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7484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64360" y="3846600"/>
              <a:ext cx="6120" cy="249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2000" y="4176720"/>
              <a:ext cx="39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49800" y="41767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AR Tool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161160" y="4176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5800" y="409572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7484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380960" y="4095720"/>
              <a:ext cx="5209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908000" y="409572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64360" y="409572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5800" y="4100400"/>
              <a:ext cx="648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7484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264360" y="4100400"/>
              <a:ext cx="6120" cy="3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342520" y="4510080"/>
              <a:ext cx="352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udy Guide for Certificate of Qualification Ex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51080" y="45100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46840" y="4759200"/>
              <a:ext cx="1657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ebsite Resource 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8520" y="47592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5800" y="442584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37484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64360" y="44258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85800" y="4432320"/>
              <a:ext cx="648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37484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64360" y="4432320"/>
              <a:ext cx="6120" cy="57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003040" y="5049720"/>
              <a:ext cx="198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Service Delivery Initiatives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975480" y="5049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85800" y="5006880"/>
              <a:ext cx="64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7484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08000" y="5006880"/>
              <a:ext cx="43563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64360" y="500688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5800" y="5011560"/>
              <a:ext cx="648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37484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264360" y="5011560"/>
              <a:ext cx="6120" cy="250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92360" y="23544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79240" y="410364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004840" y="5310360"/>
              <a:ext cx="468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oup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469240" y="5310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550600" y="5310360"/>
              <a:ext cx="1412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Study Grou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952440" y="5310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002320" y="5521320"/>
              <a:ext cx="689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dividu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86680" y="5521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766240" y="5521320"/>
              <a:ext cx="2040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am Preparation Resour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795200" y="55213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800" y="5262480"/>
              <a:ext cx="64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7484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264360" y="526248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5800" y="5268960"/>
              <a:ext cx="648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5729400"/>
              <a:ext cx="64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2280" y="5729400"/>
              <a:ext cx="6825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7484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37484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380960" y="5729400"/>
              <a:ext cx="5209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8000" y="5729400"/>
              <a:ext cx="435636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64360" y="5268960"/>
              <a:ext cx="6120" cy="46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264360" y="5729400"/>
              <a:ext cx="612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86960" y="57355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304920" y="8730720"/>
            <a:ext cx="350496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sources for Immigrant Serving Agency Sta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enticeship Pathway Flowchart-Service Provider  Interven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528A-323B-42BD-ACF1-7CFEF2B67467}" type="slidenum">
              <a:t>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marymay</cp:lastModifiedBy>
  <dcterms:modified xsi:type="dcterms:W3CDTF">2005-08-25T14:08:07Z</dcterms:modified>
  <cp:revision>185</cp:revision>
  <dc:subject/>
  <dc:title>Newcomers Connecting to Trades Apprenticeship Resources (NeCTAR)</dc:title>
</cp:coreProperties>
</file>