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6F680-E6B5-47CB-B457-E1E3BFDB1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E7B01-708E-424F-8D7C-195E2BE4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C0C34-76D5-4636-8895-361DA27F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EB40F-4922-42A1-98C1-489EA440A1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059FB-A10A-491D-8662-C34AE0ACD0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9AFF26-8C36-4932-945D-9EBCDECE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4A541F-297E-4C18-95D2-CD398CF6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F87C9-0148-44C8-ABE5-70F0F90B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22A77-99D9-4C5E-8492-9056CF59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FD365-AE5E-458F-A189-9A37D3FF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374BC-6F4C-46D8-AAF3-0AAC377E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D4B03-56E3-4E8D-9F47-30F444EB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AF37B-5AD4-4B44-9814-F09D2B4A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98BCE-A70F-4C83-8F10-83C7A3E6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40250-11B8-463B-B710-1FCE4B03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9E805-F166-47C6-8B34-2DE8E383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BD3C3-4C05-4AAE-AD36-8DA8446863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07DB2-D498-4202-91D4-A6D3357B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BFD4-738F-48BB-9941-F2FA5D73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FC35-4E78-427D-AA3B-4892A2936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10800-E5EB-4A94-9237-312685CB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1B1C-1663-4F06-A5AF-3423F8DA0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909E-F337-4692-9894-B84BD588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5A50D-5C42-4DBD-8403-26066DCF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128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128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351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735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20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048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954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467120" y="6324480"/>
            <a:ext cx="14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258480" y="618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7467480" y="6172200"/>
            <a:ext cx="15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9BE0-A965-4DFB-B5F2-F300FF394BC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6143760"/>
            <a:ext cx="509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200240"/>
            <a:ext cx="5867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fu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because s/he has reason to believe work endangers health or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96200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orts problem to supervisor/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49552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resentative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52720"/>
            <a:ext cx="5791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investigates in presence of worker and worker represent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409920"/>
            <a:ext cx="2361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the supervisor agree that the situation endangers health and 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40992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56220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48624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638520"/>
            <a:ext cx="52416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72040"/>
            <a:ext cx="2252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takes correctiv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933800"/>
            <a:ext cx="225252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turns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94344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worker have reasonable grounds to believe work  still endangers health and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0101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pector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2924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0520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78152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705200"/>
            <a:ext cx="479160" cy="1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391000"/>
            <a:ext cx="3278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pector investigates in presence of worker, employer and worker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presenta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238720"/>
            <a:ext cx="144792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may be assigned reasonable alternat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245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ritten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305400"/>
            <a:ext cx="2895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rrective action if or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6692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334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2800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2576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295320" y="3439080"/>
            <a:ext cx="228600" cy="322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46600">
            <a:off x="3239640" y="3522240"/>
            <a:ext cx="227160" cy="306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14840"/>
            <a:ext cx="342720" cy="133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43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47052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645880" y="4850280"/>
            <a:ext cx="228600" cy="2430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892320" y="4622400"/>
            <a:ext cx="228600" cy="241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238720"/>
            <a:ext cx="32220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5848200"/>
            <a:ext cx="32256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153120"/>
            <a:ext cx="32724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8578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629240"/>
            <a:ext cx="32256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238720"/>
            <a:ext cx="828720" cy="171360"/>
          </a:xfrm>
          <a:prstGeom prst="leftRightArrow">
            <a:avLst>
              <a:gd name="adj1" fmla="val 50000"/>
              <a:gd name="adj2" fmla="val 962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562200"/>
            <a:ext cx="80460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1758960"/>
            <a:ext cx="804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800440"/>
            <a:ext cx="874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01012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ight to Refuse Unsafe Wor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6591240"/>
            <a:ext cx="428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wcomers Connecting to Trades Apprenticeship Resources (NeCT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A32A-5221-4799-89CB-F1B101E937CA}" type="slidenum">
              <a:t>1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3T15:33:23Z</dcterms:modified>
  <cp:revision>164</cp:revision>
  <dc:subject/>
  <dc:title>Newcomers Connecting to Trades Apprenticeship Resources (NeCTAR)</dc:title>
</cp:coreProperties>
</file>